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715-42DB-4C17-B88D-249FF105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FF8-D932-4D0D-BB8E-AB21BFED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CE8-F097-483B-BFBB-5356DAC6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C39-D20B-41C1-8799-44028600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C46-A24B-42BB-8F61-784B41B2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D83-BB60-4DA6-B0E0-DB6ACB3E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613-C602-4930-99E1-04C29AEA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B61-2887-48C3-8FFF-955F07F0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02A-7D5A-47D9-A035-16D39337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244-B56C-4840-8AFB-A8A794AD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B7F-F13A-434A-8C76-E27E61FD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C1F-9BF7-45C3-A946-20CD63CD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55C0-6096-4A75-9248-005415CB0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kilogram.wmv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haus.com/products/education/weblab/TBBread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2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1 Pound or 100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1 Kilogram or 1 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1 Ounce or 1000 Milli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3"/>
          <p:cNvGrpSpPr/>
          <p:nvPr/>
        </p:nvGrpSpPr>
        <p:grpSpPr>
          <a:xfrm>
            <a:off x="584280" y="990720"/>
            <a:ext cx="7873920" cy="2514600"/>
            <a:chOff x="584280" y="990720"/>
            <a:chExt cx="7873920" cy="2514600"/>
          </a:xfrm>
        </p:grpSpPr>
        <p:sp>
          <p:nvSpPr>
            <p:cNvPr id="49" name="Oval 70"/>
            <p:cNvSpPr/>
            <p:nvPr/>
          </p:nvSpPr>
          <p:spPr>
            <a:xfrm>
              <a:off x="584280" y="16002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82"/>
            <p:cNvGrpSpPr/>
            <p:nvPr/>
          </p:nvGrpSpPr>
          <p:grpSpPr>
            <a:xfrm>
              <a:off x="5257800" y="990720"/>
              <a:ext cx="3200400" cy="2514600"/>
              <a:chOff x="5257800" y="990720"/>
              <a:chExt cx="3200400" cy="2514600"/>
            </a:xfrm>
          </p:grpSpPr>
          <p:pic>
            <p:nvPicPr>
              <p:cNvPr id="51" name="Picture 77" descr=""/>
              <p:cNvPicPr/>
              <p:nvPr/>
            </p:nvPicPr>
            <p:blipFill>
              <a:blip r:embed="rId1"/>
              <a:srcRect l="15499" t="5988" r="12164" b="8624"/>
              <a:stretch/>
            </p:blipFill>
            <p:spPr>
              <a:xfrm>
                <a:off x="5257800" y="990720"/>
                <a:ext cx="320040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Text Box 8"/>
              <p:cNvSpPr/>
              <p:nvPr/>
            </p:nvSpPr>
            <p:spPr>
              <a:xfrm>
                <a:off x="5562720" y="1905120"/>
                <a:ext cx="26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pound = 453.6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84"/>
          <p:cNvGrpSpPr/>
          <p:nvPr/>
        </p:nvGrpSpPr>
        <p:grpSpPr>
          <a:xfrm>
            <a:off x="533520" y="2158920"/>
            <a:ext cx="8001000" cy="3641760"/>
            <a:chOff x="533520" y="2158920"/>
            <a:chExt cx="8001000" cy="3641760"/>
          </a:xfrm>
        </p:grpSpPr>
        <p:sp>
          <p:nvSpPr>
            <p:cNvPr id="54" name="Oval 71"/>
            <p:cNvSpPr/>
            <p:nvPr/>
          </p:nvSpPr>
          <p:spPr>
            <a:xfrm>
              <a:off x="533520" y="2158920"/>
              <a:ext cx="16761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81" descr=""/>
            <p:cNvPicPr/>
            <p:nvPr/>
          </p:nvPicPr>
          <p:blipFill>
            <a:blip r:embed="rId2"/>
            <a:srcRect l="0" t="0" r="2756" b="0"/>
            <a:stretch/>
          </p:blipFill>
          <p:spPr>
            <a:xfrm>
              <a:off x="5410080" y="3657600"/>
              <a:ext cx="16765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0"/>
            <p:cNvSpPr/>
            <p:nvPr/>
          </p:nvSpPr>
          <p:spPr>
            <a:xfrm>
              <a:off x="6858000" y="487692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 kilogram =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0 po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7"/>
          <p:cNvGrpSpPr/>
          <p:nvPr/>
        </p:nvGrpSpPr>
        <p:grpSpPr>
          <a:xfrm>
            <a:off x="457200" y="2730600"/>
            <a:ext cx="4267080" cy="2908080"/>
            <a:chOff x="457200" y="2730600"/>
            <a:chExt cx="4267080" cy="2908080"/>
          </a:xfrm>
        </p:grpSpPr>
        <p:sp>
          <p:nvSpPr>
            <p:cNvPr id="58" name="Oval 74"/>
            <p:cNvSpPr/>
            <p:nvPr/>
          </p:nvSpPr>
          <p:spPr>
            <a:xfrm>
              <a:off x="533520" y="27306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85" descr=""/>
            <p:cNvPicPr/>
            <p:nvPr/>
          </p:nvPicPr>
          <p:blipFill>
            <a:blip r:embed="rId3"/>
            <a:stretch/>
          </p:blipFill>
          <p:spPr>
            <a:xfrm>
              <a:off x="457200" y="38098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6"/>
            <p:cNvSpPr/>
            <p:nvPr/>
          </p:nvSpPr>
          <p:spPr>
            <a:xfrm>
              <a:off x="2362320" y="4419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ounce of gold = 28,349.5 milli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920" y="1066680"/>
            <a:ext cx="65530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kilogram is equal to the m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Prototype 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PK), a platinum-iridium cylinder kept by the BIPM at Sèvres, Fr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304920" y="341316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28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6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8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71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3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80" name="Picture 44" descr=""/>
            <p:cNvPicPr/>
            <p:nvPr/>
          </p:nvPicPr>
          <p:blipFill>
            <a:blip r:embed="rId3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47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447920" y="640080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419720" y="99072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810240" cy="16063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0"/>
          <p:cNvGrpSpPr/>
          <p:nvPr/>
        </p:nvGrpSpPr>
        <p:grpSpPr>
          <a:xfrm>
            <a:off x="457200" y="3352680"/>
            <a:ext cx="8458200" cy="2632320"/>
            <a:chOff x="457200" y="3352680"/>
            <a:chExt cx="8458200" cy="2632320"/>
          </a:xfrm>
        </p:grpSpPr>
        <p:pic>
          <p:nvPicPr>
            <p:cNvPr id="89" name="Picture 22" descr=""/>
            <p:cNvPicPr/>
            <p:nvPr/>
          </p:nvPicPr>
          <p:blipFill>
            <a:blip r:embed="rId2"/>
            <a:stretch/>
          </p:blipFill>
          <p:spPr>
            <a:xfrm>
              <a:off x="457200" y="3352680"/>
              <a:ext cx="318132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24"/>
            <p:cNvSpPr/>
            <p:nvPr/>
          </p:nvSpPr>
          <p:spPr>
            <a:xfrm>
              <a:off x="3733920" y="358128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9"/>
          <p:cNvSpPr/>
          <p:nvPr/>
        </p:nvSpPr>
        <p:spPr>
          <a:xfrm flipH="1" flipV="1">
            <a:off x="3860640" y="185400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20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97" name="Text Box 5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film canister on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100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large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103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top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106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small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108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Corrigan, Susan B NFG NG VAARNG (USA)</cp:lastModifiedBy>
  <dcterms:modified xsi:type="dcterms:W3CDTF">2022-09-26T17:25:01Z</dcterms:modified>
  <cp:revision>21</cp:revision>
  <dc:subject/>
  <dc:title>Slide 1</dc:title>
</cp:coreProperties>
</file>