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jeop.wav" ContentType="audio/x-wav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A4D-52EE-4113-8362-7FE584E2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082-53C3-4659-930A-C192ED1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347-9508-47D7-A33A-1CCBC1D1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BF8-0292-4DEC-818E-7F00AE3D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1EA1-4657-4CBE-AB1D-EF92674C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AE30-F4C9-41FF-915C-2EB077A6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4845-C1DA-4038-8CAC-87378B14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192-95DD-4644-B8CC-9CD6E61B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4320-9097-4FBA-9F47-0301EFC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482A-A298-42D9-8F8B-FC5BD929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91B3-F913-416F-8D94-96DBA9E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547-D513-4EFF-AD97-3D256735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D274-AF9D-469A-8361-65276085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BA52-34EF-40B8-8B4D-307A1F3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76BA-6E65-4FED-9CF5-23E414F5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5C9-64BA-4357-97C6-F17CD3DF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F981-B7E5-484A-A767-BC9D05B4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F0A0-BFDD-408C-B007-7C3BC9AC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BF6E-82B3-4811-9186-57866F67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D373-333C-4915-BE17-EB2748BB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D7A4-EBA3-494C-8C2B-B28BBA21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566C-FF22-4B05-A552-A8806F33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642-D93B-45B7-AD3F-CECC08CA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C400-6770-47F5-93CE-B9A48876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8C53-9949-4B06-8F54-FD826A5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2C38-B90B-42B9-9FB2-136585A8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B252B-8BB8-4CC0-A744-235A92EB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66A0-514B-4E2F-9D72-29DDE07A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697A-3505-43D9-B3EE-15C4B5D1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2EA4-2741-42AE-8E70-19A168EF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83B-5643-4DF5-852F-17B3C4AE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2A8-69DA-4558-917F-13860907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729-BAC1-43F9-BD46-9BC25686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065-E00A-4676-B3C0-CCB28A07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4E1-EB0F-4276-BE50-99A9E8D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13C-CD64-4AEE-BB7F-C141B1CE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316D-C04F-41F4-BE28-3797288F9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285A-3FC1-46A3-9A82-4ABE4DD63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66C6-8A20-4896-AE94-ABE040785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34.xml"/><Relationship Id="rId10" Type="http://schemas.openxmlformats.org/officeDocument/2006/relationships/slide" Target="slide24.xml"/><Relationship Id="rId11" Type="http://schemas.openxmlformats.org/officeDocument/2006/relationships/slide" Target="slide44.xml"/><Relationship Id="rId12" Type="http://schemas.openxmlformats.org/officeDocument/2006/relationships/slide" Target="slide16.xml"/><Relationship Id="rId13" Type="http://schemas.openxmlformats.org/officeDocument/2006/relationships/slide" Target="slide26.xml"/><Relationship Id="rId14" Type="http://schemas.openxmlformats.org/officeDocument/2006/relationships/slide" Target="slide36.xml"/><Relationship Id="rId15" Type="http://schemas.openxmlformats.org/officeDocument/2006/relationships/slide" Target="slide46.xml"/><Relationship Id="rId16" Type="http://schemas.openxmlformats.org/officeDocument/2006/relationships/slide" Target="slide18.xml"/><Relationship Id="rId17" Type="http://schemas.openxmlformats.org/officeDocument/2006/relationships/slide" Target="slide28.xml"/><Relationship Id="rId18" Type="http://schemas.openxmlformats.org/officeDocument/2006/relationships/slide" Target="slide38.xml"/><Relationship Id="rId19" Type="http://schemas.openxmlformats.org/officeDocument/2006/relationships/slide" Target="slide48.xml"/><Relationship Id="rId20" Type="http://schemas.openxmlformats.org/officeDocument/2006/relationships/slide" Target="slide20.xml"/><Relationship Id="rId21" Type="http://schemas.openxmlformats.org/officeDocument/2006/relationships/slide" Target="slide30.xml"/><Relationship Id="rId22" Type="http://schemas.openxmlformats.org/officeDocument/2006/relationships/slide" Target="slide40.xml"/><Relationship Id="rId23" Type="http://schemas.openxmlformats.org/officeDocument/2006/relationships/slide" Target="slide50.xml"/><Relationship Id="rId24" Type="http://schemas.openxmlformats.org/officeDocument/2006/relationships/slide" Target="slide22.xml"/><Relationship Id="rId25" Type="http://schemas.openxmlformats.org/officeDocument/2006/relationships/slide" Target="slide32.xml"/><Relationship Id="rId26" Type="http://schemas.openxmlformats.org/officeDocument/2006/relationships/slide" Target="slide42.xml"/><Relationship Id="rId27" Type="http://schemas.openxmlformats.org/officeDocument/2006/relationships/slide" Target="slide52.xml"/><Relationship Id="rId28" Type="http://schemas.openxmlformats.org/officeDocument/2006/relationships/slide" Target="slide54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Have you ever gotten STUCK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585880" y="2438280"/>
            <a:ext cx="4143600" cy="4419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9"/>
          <p:cNvSpPr/>
          <p:nvPr/>
        </p:nvSpPr>
        <p:spPr>
          <a:xfrm>
            <a:off x="5867280" y="62485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228600" y="5867280"/>
            <a:ext cx="20098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eated by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ennifer Sagendorf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59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1066680" y="1676520"/>
            <a:ext cx="80787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which place is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git located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8.937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4952880" y="47242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4"/>
          <p:cNvSpPr/>
          <p:nvPr/>
        </p:nvSpPr>
        <p:spPr>
          <a:xfrm>
            <a:off x="1981080" y="2057400"/>
            <a:ext cx="5334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usandt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8.937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1143000" y="1523880"/>
            <a:ext cx="7543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which place is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git located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,0942.654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1219320" y="1828800"/>
            <a:ext cx="65055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ndredt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,0942.654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3"/>
          <a:stretch/>
        </p:blipFill>
        <p:spPr>
          <a:xfrm>
            <a:off x="594360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4"/>
          <p:cNvSpPr/>
          <p:nvPr/>
        </p:nvSpPr>
        <p:spPr>
          <a:xfrm>
            <a:off x="3352680" y="213372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+ 0.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4"/>
          <p:cNvSpPr/>
          <p:nvPr/>
        </p:nvSpPr>
        <p:spPr>
          <a:xfrm>
            <a:off x="3124080" y="30481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4"/>
          <p:cNvSpPr/>
          <p:nvPr/>
        </p:nvSpPr>
        <p:spPr>
          <a:xfrm>
            <a:off x="2895480" y="2624040"/>
            <a:ext cx="42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5.2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+   2.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6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4"/>
          <p:cNvSpPr/>
          <p:nvPr/>
        </p:nvSpPr>
        <p:spPr>
          <a:xfrm>
            <a:off x="2895480" y="251460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17.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4"/>
          <p:cNvSpPr/>
          <p:nvPr/>
        </p:nvSpPr>
        <p:spPr>
          <a:xfrm>
            <a:off x="2514600" y="236232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7.5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+   2.6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819520" y="251460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50.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e decimals dragging you dow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419720" cy="4051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3"/>
          <a:stretch/>
        </p:blipFill>
        <p:spPr>
          <a:xfrm>
            <a:off x="76201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08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908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"/>
          <p:cNvSpPr/>
          <p:nvPr/>
        </p:nvSpPr>
        <p:spPr>
          <a:xfrm>
            <a:off x="1828800" y="198108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1.67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+   7.3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4"/>
          <p:cNvSpPr/>
          <p:nvPr/>
        </p:nvSpPr>
        <p:spPr>
          <a:xfrm>
            <a:off x="2819520" y="228600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8.9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2057400" y="1828800"/>
            <a:ext cx="5334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3.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+   6.65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H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2743200" y="2514600"/>
            <a:ext cx="41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9.85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1371600" y="1981080"/>
            <a:ext cx="678168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ound the number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nearest ten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32.5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2819520" y="24382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2.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685800" y="1447920"/>
            <a:ext cx="80010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und the number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nearest hundred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.17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6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2362320" y="243828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.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914400" y="2057400"/>
            <a:ext cx="77724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und the number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nearest ten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.67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1890000" y="2425680"/>
            <a:ext cx="35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7.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Arial"/>
              </a:rPr>
              <a:t>Decimal Disco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4"/>
          <p:cNvSpPr/>
          <p:nvPr/>
        </p:nvSpPr>
        <p:spPr>
          <a:xfrm>
            <a:off x="898560" y="180180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lac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887640" y="17524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93520" y="1752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6858000" y="1752480"/>
            <a:ext cx="17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4"/>
          <p:cNvSpPr/>
          <p:nvPr/>
        </p:nvSpPr>
        <p:spPr>
          <a:xfrm>
            <a:off x="6771240" y="6324480"/>
            <a:ext cx="1697040" cy="459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8" action="ppaction://hlinksldjump"/>
              </a:rPr>
              <a:t>Final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4"/>
          <p:cNvSpPr/>
          <p:nvPr/>
        </p:nvSpPr>
        <p:spPr>
          <a:xfrm>
            <a:off x="685800" y="1600200"/>
            <a:ext cx="815328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und the number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nearest hundred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25.48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4"/>
          <p:cNvSpPr/>
          <p:nvPr/>
        </p:nvSpPr>
        <p:spPr>
          <a:xfrm>
            <a:off x="1889640" y="2425680"/>
            <a:ext cx="45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25.4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4"/>
          <p:cNvSpPr/>
          <p:nvPr/>
        </p:nvSpPr>
        <p:spPr>
          <a:xfrm>
            <a:off x="914400" y="1600200"/>
            <a:ext cx="792468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und the number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nearest ten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59.263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H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1891800" y="2624040"/>
            <a:ext cx="38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59.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2895480" y="236232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-0.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0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200400" y="24382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2743200" y="2438280"/>
            <a:ext cx="4876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5.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-12.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6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4"/>
          <p:cNvSpPr/>
          <p:nvPr/>
        </p:nvSpPr>
        <p:spPr>
          <a:xfrm>
            <a:off x="2895480" y="25909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3.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4"/>
          <p:cNvSpPr/>
          <p:nvPr/>
        </p:nvSpPr>
        <p:spPr>
          <a:xfrm>
            <a:off x="2133720" y="2590920"/>
            <a:ext cx="55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49.2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-314.0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2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4"/>
          <p:cNvSpPr/>
          <p:nvPr/>
        </p:nvSpPr>
        <p:spPr>
          <a:xfrm>
            <a:off x="2514600" y="26668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35.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371600" y="2286000"/>
            <a:ext cx="70772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which place is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igit located?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427.5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434340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5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2514600" y="22860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84.3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-155.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8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2286000" y="25909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29.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1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4"/>
          <p:cNvSpPr/>
          <p:nvPr/>
        </p:nvSpPr>
        <p:spPr>
          <a:xfrm>
            <a:off x="1889280" y="1828800"/>
            <a:ext cx="649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9,243.27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- 1,581.35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H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4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4"/>
          <p:cNvSpPr/>
          <p:nvPr/>
        </p:nvSpPr>
        <p:spPr>
          <a:xfrm>
            <a:off x="838080" y="2666880"/>
            <a:ext cx="74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7,661.9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Question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4"/>
          <p:cNvSpPr/>
          <p:nvPr/>
        </p:nvSpPr>
        <p:spPr>
          <a:xfrm>
            <a:off x="2743200" y="2438280"/>
            <a:ext cx="373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x 1.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4"/>
          <p:cNvSpPr/>
          <p:nvPr/>
        </p:nvSpPr>
        <p:spPr>
          <a:xfrm>
            <a:off x="2286000" y="27432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.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4"/>
          <p:cNvSpPr/>
          <p:nvPr/>
        </p:nvSpPr>
        <p:spPr>
          <a:xfrm>
            <a:off x="2971800" y="2286000"/>
            <a:ext cx="42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.2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x   1.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"/>
          <p:cNvSpPr/>
          <p:nvPr/>
        </p:nvSpPr>
        <p:spPr>
          <a:xfrm>
            <a:off x="2590920" y="25146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4.6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4"/>
          <p:cNvSpPr/>
          <p:nvPr/>
        </p:nvSpPr>
        <p:spPr>
          <a:xfrm>
            <a:off x="2819520" y="2286000"/>
            <a:ext cx="441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.7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x 1.2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1889640" y="2425680"/>
            <a:ext cx="45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.97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100 Answer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2590920" y="2362320"/>
            <a:ext cx="4724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427.5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Question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1905120" y="228600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42.3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x   5.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400 Answer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4"/>
          <p:cNvSpPr/>
          <p:nvPr/>
        </p:nvSpPr>
        <p:spPr>
          <a:xfrm>
            <a:off x="2286000" y="2362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747.4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Question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4"/>
          <p:cNvSpPr/>
          <p:nvPr/>
        </p:nvSpPr>
        <p:spPr>
          <a:xfrm>
            <a:off x="2438280" y="198108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52.1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x   2.5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500 Answer from H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1890720" y="243360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898.084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al Roun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981080" y="2666880"/>
            <a:ext cx="58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5 104.56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2743200" y="25909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2743200" y="2590920"/>
            <a:ext cx="4343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MSj00742890000[1].mid" descr=""/>
          <p:cNvPicPr/>
          <p:nvPr/>
        </p:nvPicPr>
        <p:blipFill>
          <a:blip r:embed="rId3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1944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al Answe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508040" y="2766960"/>
            <a:ext cx="672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20.9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"/>
          <p:cNvPicPr/>
          <p:nvPr/>
        </p:nvPicPr>
        <p:blipFill>
          <a:blip r:embed="rId2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6169" fill="hold"/>
                                        <p:tgtEl>
                                          <p:spTgt spid="4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 a peek at these websit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mal Plac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mal R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mal Ad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mal Sub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mal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401920" cy="3514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2"/>
          <a:stretch/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"/>
          <p:cNvPicPr/>
          <p:nvPr/>
        </p:nvPicPr>
        <p:blipFill>
          <a:blip r:embed="rId3"/>
          <a:stretch/>
        </p:blipFill>
        <p:spPr>
          <a:xfrm>
            <a:off x="80010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862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862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Question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295280" y="1828800"/>
            <a:ext cx="7239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which place is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git located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6.92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4495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200 Answer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971800" y="2362320"/>
            <a:ext cx="3733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t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6.92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4419720" y="3505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Question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3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1066680" y="1600200"/>
            <a:ext cx="76964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which place is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git located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9.74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3"/>
          <a:stretch/>
        </p:blipFill>
        <p:spPr>
          <a:xfrm>
            <a:off x="48769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$300 Answer from H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7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4"/>
          <p:cNvSpPr/>
          <p:nvPr/>
        </p:nvSpPr>
        <p:spPr>
          <a:xfrm>
            <a:off x="1889280" y="1981080"/>
            <a:ext cx="5437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ndredt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9.74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3"/>
          <a:stretch/>
        </p:blipFill>
        <p:spPr>
          <a:xfrm>
            <a:off x="48769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2:05:57Z</dcterms:created>
  <dc:creator>student</dc:creator>
  <dc:description/>
  <dc:language>en-US</dc:language>
  <cp:lastModifiedBy>Corrigan, Susan B NFG NG VAARNG (USA)</cp:lastModifiedBy>
  <dcterms:modified xsi:type="dcterms:W3CDTF">2022-07-05T14:29:30Z</dcterms:modified>
  <cp:revision>30</cp:revision>
  <dc:subject/>
  <dc:title>Have you ever gotten STUCK? </dc:title>
</cp:coreProperties>
</file>