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5087600" cy="9601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E33-DB85-4468-AF62-9C01B3C8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128253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1840" y="5782320"/>
            <a:ext cx="128253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1CC-1B69-4589-8062-5918D81C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03640" y="277308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1840" y="578232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03640" y="578232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2C8-00DF-4F7C-A680-365FC925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41295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8400" y="2773080"/>
            <a:ext cx="41295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804600" y="2773080"/>
            <a:ext cx="41295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1840" y="5782320"/>
            <a:ext cx="41295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68400" y="5782320"/>
            <a:ext cx="41295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804600" y="5782320"/>
            <a:ext cx="41295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D78-D5C8-4050-8A23-879E865A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1840" y="2773080"/>
            <a:ext cx="128253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79A-0A6D-427C-A38D-B598B49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12825360" cy="57610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88E-E3CA-4319-A2CD-D30F3F89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6258600" cy="57610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03640" y="2773080"/>
            <a:ext cx="6258600" cy="57610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9F0-2112-4786-8D6D-F0BE8A90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6A5-85BE-4531-BD77-2FB77D1F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1840" y="852120"/>
            <a:ext cx="128253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593-D2B3-41D8-A95D-141EEEA2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03640" y="2773080"/>
            <a:ext cx="6258600" cy="57610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1840" y="578232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233-54F6-4B6E-97A8-EFC5C2E0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6258600" cy="57610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03640" y="277308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03640" y="578232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AAA-B729-4B5D-B8C9-9B85ABE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1840" y="277308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03640" y="2773080"/>
            <a:ext cx="625860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1840" y="5782320"/>
            <a:ext cx="12825360" cy="27478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EF8-0CA2-48D0-892B-82E59B8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1840" y="852120"/>
            <a:ext cx="12825360" cy="160020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1840" y="2773080"/>
            <a:ext cx="12825360" cy="57610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rmAutofit/>
          </a:bodyPr>
          <a:p>
            <a:pPr marL="474840" indent="-47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956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82560" indent="-3157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2216160" indent="-317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7960" indent="-3157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7960" indent="-3157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7960" indent="-3157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31480" y="8748360"/>
            <a:ext cx="3143160" cy="6382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55920" y="8748360"/>
            <a:ext cx="4776840" cy="6382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re! Rocks in Your Head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13680" y="8748360"/>
            <a:ext cx="3143160" cy="638280"/>
          </a:xfrm>
          <a:prstGeom prst="rect">
            <a:avLst/>
          </a:prstGeom>
          <a:noFill/>
          <a:ln w="0">
            <a:noFill/>
          </a:ln>
        </p:spPr>
        <p:txBody>
          <a:bodyPr lIns="126720" rIns="126720" tIns="63360" bIns="63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60C2-BD54-419E-AA64-D95F53A5F48A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4"/>
          <p:cNvSpPr/>
          <p:nvPr/>
        </p:nvSpPr>
        <p:spPr>
          <a:xfrm>
            <a:off x="10814040" y="8748720"/>
            <a:ext cx="3143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D144-7264-4764-A8DA-8A97A3C5BE43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29"/>
          <p:cNvSpPr/>
          <p:nvPr/>
        </p:nvSpPr>
        <p:spPr>
          <a:xfrm>
            <a:off x="0" y="3124080"/>
            <a:ext cx="6515280" cy="189000"/>
          </a:xfrm>
          <a:custGeom>
            <a:avLst/>
            <a:gdLst>
              <a:gd name="textAreaLeft" fmla="*/ 0 w 6515280"/>
              <a:gd name="textAreaRight" fmla="*/ 6515640 w 6515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2133720" y="2895480"/>
            <a:ext cx="4876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191120" y="7759800"/>
            <a:ext cx="8839080" cy="18414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0000" h="10985">
                <a:moveTo>
                  <a:pt x="0" y="10985"/>
                </a:moveTo>
                <a:cubicBezTo>
                  <a:pt x="351" y="9232"/>
                  <a:pt x="417" y="8788"/>
                  <a:pt x="604" y="7803"/>
                </a:cubicBezTo>
                <a:cubicBezTo>
                  <a:pt x="791" y="6818"/>
                  <a:pt x="920" y="5909"/>
                  <a:pt x="1121" y="5076"/>
                </a:cubicBezTo>
                <a:cubicBezTo>
                  <a:pt x="1322" y="4243"/>
                  <a:pt x="1567" y="3636"/>
                  <a:pt x="1811" y="2803"/>
                </a:cubicBezTo>
                <a:cubicBezTo>
                  <a:pt x="2055" y="1970"/>
                  <a:pt x="2271" y="0"/>
                  <a:pt x="2587" y="76"/>
                </a:cubicBezTo>
                <a:cubicBezTo>
                  <a:pt x="2903" y="152"/>
                  <a:pt x="3026" y="4109"/>
                  <a:pt x="3707" y="3258"/>
                </a:cubicBezTo>
                <a:cubicBezTo>
                  <a:pt x="4022" y="3657"/>
                  <a:pt x="4339" y="3561"/>
                  <a:pt x="4569" y="3712"/>
                </a:cubicBezTo>
                <a:cubicBezTo>
                  <a:pt x="4799" y="3863"/>
                  <a:pt x="4971" y="4091"/>
                  <a:pt x="5086" y="4167"/>
                </a:cubicBezTo>
                <a:cubicBezTo>
                  <a:pt x="5201" y="4243"/>
                  <a:pt x="5216" y="4394"/>
                  <a:pt x="5259" y="4167"/>
                </a:cubicBezTo>
                <a:cubicBezTo>
                  <a:pt x="5302" y="3940"/>
                  <a:pt x="5213" y="2801"/>
                  <a:pt x="5345" y="2803"/>
                </a:cubicBezTo>
                <a:cubicBezTo>
                  <a:pt x="5477" y="2805"/>
                  <a:pt x="5832" y="3745"/>
                  <a:pt x="6053" y="4181"/>
                </a:cubicBezTo>
                <a:cubicBezTo>
                  <a:pt x="6274" y="4617"/>
                  <a:pt x="6375" y="4851"/>
                  <a:pt x="6668" y="5418"/>
                </a:cubicBezTo>
                <a:cubicBezTo>
                  <a:pt x="6960" y="5985"/>
                  <a:pt x="7427" y="6913"/>
                  <a:pt x="7807" y="7583"/>
                </a:cubicBezTo>
                <a:cubicBezTo>
                  <a:pt x="8188" y="8253"/>
                  <a:pt x="8626" y="8923"/>
                  <a:pt x="8948" y="9439"/>
                </a:cubicBezTo>
                <a:cubicBezTo>
                  <a:pt x="9269" y="9954"/>
                  <a:pt x="9561" y="10418"/>
                  <a:pt x="9737" y="10676"/>
                </a:cubicBezTo>
                <a:cubicBezTo>
                  <a:pt x="9912" y="10933"/>
                  <a:pt x="9957" y="10959"/>
                  <a:pt x="10000" y="10985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4762440" y="914400"/>
            <a:ext cx="10325160" cy="7939080"/>
          </a:xfrm>
          <a:custGeom>
            <a:avLst/>
            <a:gdLst>
              <a:gd name="textAreaLeft" fmla="*/ 0 w 10325160"/>
              <a:gd name="textAreaRight" fmla="*/ 10325520 w 10325160"/>
              <a:gd name="textAreaTop" fmla="*/ 0 h 7939080"/>
              <a:gd name="textAreaBottom" fmla="*/ 7939440 h 7939080"/>
            </a:gdLst>
            <a:ahLst/>
            <a:rect l="textAreaLeft" t="textAreaTop" r="textAreaRight" b="textAreaBottom"/>
            <a:pathLst>
              <a:path w="4336" h="4048">
                <a:moveTo>
                  <a:pt x="4336" y="2080"/>
                </a:moveTo>
                <a:cubicBezTo>
                  <a:pt x="4116" y="2064"/>
                  <a:pt x="3896" y="2048"/>
                  <a:pt x="3760" y="2032"/>
                </a:cubicBezTo>
                <a:cubicBezTo>
                  <a:pt x="3624" y="2016"/>
                  <a:pt x="3624" y="2008"/>
                  <a:pt x="3520" y="1984"/>
                </a:cubicBezTo>
                <a:cubicBezTo>
                  <a:pt x="3416" y="1960"/>
                  <a:pt x="3248" y="1920"/>
                  <a:pt x="3136" y="1888"/>
                </a:cubicBezTo>
                <a:cubicBezTo>
                  <a:pt x="3024" y="1856"/>
                  <a:pt x="2944" y="1824"/>
                  <a:pt x="2848" y="1792"/>
                </a:cubicBezTo>
                <a:cubicBezTo>
                  <a:pt x="2752" y="1760"/>
                  <a:pt x="2672" y="1744"/>
                  <a:pt x="2560" y="1696"/>
                </a:cubicBezTo>
                <a:cubicBezTo>
                  <a:pt x="2448" y="1648"/>
                  <a:pt x="2312" y="1576"/>
                  <a:pt x="2176" y="1504"/>
                </a:cubicBezTo>
                <a:cubicBezTo>
                  <a:pt x="2040" y="1432"/>
                  <a:pt x="1872" y="1352"/>
                  <a:pt x="1744" y="1264"/>
                </a:cubicBezTo>
                <a:cubicBezTo>
                  <a:pt x="1616" y="1176"/>
                  <a:pt x="1520" y="1064"/>
                  <a:pt x="1408" y="976"/>
                </a:cubicBezTo>
                <a:cubicBezTo>
                  <a:pt x="1296" y="888"/>
                  <a:pt x="1168" y="808"/>
                  <a:pt x="1072" y="736"/>
                </a:cubicBezTo>
                <a:cubicBezTo>
                  <a:pt x="976" y="664"/>
                  <a:pt x="904" y="608"/>
                  <a:pt x="832" y="544"/>
                </a:cubicBezTo>
                <a:cubicBezTo>
                  <a:pt x="760" y="480"/>
                  <a:pt x="728" y="424"/>
                  <a:pt x="640" y="352"/>
                </a:cubicBezTo>
                <a:cubicBezTo>
                  <a:pt x="552" y="280"/>
                  <a:pt x="376" y="168"/>
                  <a:pt x="304" y="112"/>
                </a:cubicBezTo>
                <a:cubicBezTo>
                  <a:pt x="232" y="56"/>
                  <a:pt x="240" y="32"/>
                  <a:pt x="208" y="16"/>
                </a:cubicBezTo>
                <a:cubicBezTo>
                  <a:pt x="176" y="0"/>
                  <a:pt x="144" y="8"/>
                  <a:pt x="112" y="16"/>
                </a:cubicBezTo>
                <a:cubicBezTo>
                  <a:pt x="80" y="24"/>
                  <a:pt x="32" y="40"/>
                  <a:pt x="16" y="64"/>
                </a:cubicBezTo>
                <a:cubicBezTo>
                  <a:pt x="0" y="88"/>
                  <a:pt x="16" y="120"/>
                  <a:pt x="16" y="160"/>
                </a:cubicBezTo>
                <a:cubicBezTo>
                  <a:pt x="16" y="200"/>
                  <a:pt x="8" y="232"/>
                  <a:pt x="16" y="304"/>
                </a:cubicBezTo>
                <a:cubicBezTo>
                  <a:pt x="24" y="376"/>
                  <a:pt x="40" y="488"/>
                  <a:pt x="64" y="592"/>
                </a:cubicBezTo>
                <a:cubicBezTo>
                  <a:pt x="88" y="696"/>
                  <a:pt x="120" y="808"/>
                  <a:pt x="160" y="928"/>
                </a:cubicBezTo>
                <a:cubicBezTo>
                  <a:pt x="200" y="1048"/>
                  <a:pt x="248" y="1176"/>
                  <a:pt x="304" y="1312"/>
                </a:cubicBezTo>
                <a:cubicBezTo>
                  <a:pt x="360" y="1448"/>
                  <a:pt x="416" y="1576"/>
                  <a:pt x="496" y="1744"/>
                </a:cubicBezTo>
                <a:cubicBezTo>
                  <a:pt x="576" y="1912"/>
                  <a:pt x="688" y="2176"/>
                  <a:pt x="784" y="2320"/>
                </a:cubicBezTo>
                <a:cubicBezTo>
                  <a:pt x="880" y="2464"/>
                  <a:pt x="968" y="2512"/>
                  <a:pt x="1072" y="2608"/>
                </a:cubicBezTo>
                <a:cubicBezTo>
                  <a:pt x="1176" y="2704"/>
                  <a:pt x="1280" y="2800"/>
                  <a:pt x="1408" y="2896"/>
                </a:cubicBezTo>
                <a:cubicBezTo>
                  <a:pt x="1536" y="2992"/>
                  <a:pt x="1696" y="3088"/>
                  <a:pt x="1840" y="3184"/>
                </a:cubicBezTo>
                <a:cubicBezTo>
                  <a:pt x="1984" y="3280"/>
                  <a:pt x="2096" y="3376"/>
                  <a:pt x="2272" y="3472"/>
                </a:cubicBezTo>
                <a:cubicBezTo>
                  <a:pt x="2448" y="3568"/>
                  <a:pt x="2688" y="3688"/>
                  <a:pt x="2896" y="3760"/>
                </a:cubicBezTo>
                <a:cubicBezTo>
                  <a:pt x="3104" y="3832"/>
                  <a:pt x="3328" y="3864"/>
                  <a:pt x="3520" y="3904"/>
                </a:cubicBezTo>
                <a:cubicBezTo>
                  <a:pt x="3712" y="3944"/>
                  <a:pt x="3912" y="3976"/>
                  <a:pt x="4048" y="4000"/>
                </a:cubicBezTo>
                <a:cubicBezTo>
                  <a:pt x="4184" y="4024"/>
                  <a:pt x="4260" y="4036"/>
                  <a:pt x="4336" y="404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-114480" y="1158840"/>
            <a:ext cx="6115320" cy="5851440"/>
          </a:xfrm>
          <a:custGeom>
            <a:avLst/>
            <a:gdLst>
              <a:gd name="textAreaLeft" fmla="*/ 0 w 6115320"/>
              <a:gd name="textAreaRight" fmla="*/ 6115680 w 6115320"/>
              <a:gd name="textAreaTop" fmla="*/ 0 h 5851440"/>
              <a:gd name="textAreaBottom" fmla="*/ 5851800 h 5851440"/>
            </a:gdLst>
            <a:ahLst/>
            <a:rect l="textAreaLeft" t="textAreaTop" r="textAreaRight" b="textAreaBottom"/>
            <a:pathLst>
              <a:path w="2568" h="2984">
                <a:moveTo>
                  <a:pt x="48" y="2984"/>
                </a:moveTo>
                <a:cubicBezTo>
                  <a:pt x="92" y="2968"/>
                  <a:pt x="136" y="2952"/>
                  <a:pt x="192" y="2936"/>
                </a:cubicBezTo>
                <a:cubicBezTo>
                  <a:pt x="248" y="2920"/>
                  <a:pt x="312" y="2912"/>
                  <a:pt x="384" y="2888"/>
                </a:cubicBezTo>
                <a:cubicBezTo>
                  <a:pt x="456" y="2864"/>
                  <a:pt x="552" y="2824"/>
                  <a:pt x="624" y="2792"/>
                </a:cubicBezTo>
                <a:cubicBezTo>
                  <a:pt x="696" y="2760"/>
                  <a:pt x="760" y="2720"/>
                  <a:pt x="816" y="2696"/>
                </a:cubicBezTo>
                <a:cubicBezTo>
                  <a:pt x="872" y="2672"/>
                  <a:pt x="912" y="2656"/>
                  <a:pt x="960" y="2648"/>
                </a:cubicBezTo>
                <a:cubicBezTo>
                  <a:pt x="1008" y="2640"/>
                  <a:pt x="1048" y="2648"/>
                  <a:pt x="1104" y="2648"/>
                </a:cubicBezTo>
                <a:cubicBezTo>
                  <a:pt x="1160" y="2648"/>
                  <a:pt x="1248" y="2640"/>
                  <a:pt x="1296" y="2648"/>
                </a:cubicBezTo>
                <a:cubicBezTo>
                  <a:pt x="1344" y="2656"/>
                  <a:pt x="1344" y="2680"/>
                  <a:pt x="1392" y="2696"/>
                </a:cubicBezTo>
                <a:cubicBezTo>
                  <a:pt x="1440" y="2712"/>
                  <a:pt x="1528" y="2736"/>
                  <a:pt x="1584" y="2744"/>
                </a:cubicBezTo>
                <a:cubicBezTo>
                  <a:pt x="1640" y="2752"/>
                  <a:pt x="1648" y="2744"/>
                  <a:pt x="1728" y="2744"/>
                </a:cubicBezTo>
                <a:cubicBezTo>
                  <a:pt x="1808" y="2744"/>
                  <a:pt x="1968" y="2744"/>
                  <a:pt x="2064" y="2744"/>
                </a:cubicBezTo>
                <a:cubicBezTo>
                  <a:pt x="2160" y="2744"/>
                  <a:pt x="2240" y="2744"/>
                  <a:pt x="2304" y="2744"/>
                </a:cubicBezTo>
                <a:cubicBezTo>
                  <a:pt x="2368" y="2744"/>
                  <a:pt x="2408" y="2760"/>
                  <a:pt x="2448" y="2744"/>
                </a:cubicBezTo>
                <a:cubicBezTo>
                  <a:pt x="2488" y="2728"/>
                  <a:pt x="2528" y="2688"/>
                  <a:pt x="2544" y="2648"/>
                </a:cubicBezTo>
                <a:cubicBezTo>
                  <a:pt x="2560" y="2608"/>
                  <a:pt x="2568" y="2568"/>
                  <a:pt x="2544" y="2504"/>
                </a:cubicBezTo>
                <a:cubicBezTo>
                  <a:pt x="2520" y="2440"/>
                  <a:pt x="2464" y="2392"/>
                  <a:pt x="2400" y="2264"/>
                </a:cubicBezTo>
                <a:cubicBezTo>
                  <a:pt x="2336" y="2136"/>
                  <a:pt x="2232" y="1912"/>
                  <a:pt x="2160" y="1736"/>
                </a:cubicBezTo>
                <a:cubicBezTo>
                  <a:pt x="2088" y="1560"/>
                  <a:pt x="2016" y="1376"/>
                  <a:pt x="1968" y="1208"/>
                </a:cubicBezTo>
                <a:cubicBezTo>
                  <a:pt x="1920" y="1040"/>
                  <a:pt x="1904" y="888"/>
                  <a:pt x="1872" y="728"/>
                </a:cubicBezTo>
                <a:cubicBezTo>
                  <a:pt x="1840" y="568"/>
                  <a:pt x="1800" y="360"/>
                  <a:pt x="1776" y="248"/>
                </a:cubicBezTo>
                <a:cubicBezTo>
                  <a:pt x="1752" y="136"/>
                  <a:pt x="1760" y="96"/>
                  <a:pt x="1728" y="56"/>
                </a:cubicBezTo>
                <a:cubicBezTo>
                  <a:pt x="1696" y="16"/>
                  <a:pt x="1624" y="0"/>
                  <a:pt x="1584" y="8"/>
                </a:cubicBezTo>
                <a:cubicBezTo>
                  <a:pt x="1544" y="16"/>
                  <a:pt x="1520" y="56"/>
                  <a:pt x="1488" y="104"/>
                </a:cubicBezTo>
                <a:cubicBezTo>
                  <a:pt x="1456" y="152"/>
                  <a:pt x="1440" y="200"/>
                  <a:pt x="1392" y="296"/>
                </a:cubicBezTo>
                <a:cubicBezTo>
                  <a:pt x="1344" y="392"/>
                  <a:pt x="1288" y="520"/>
                  <a:pt x="1200" y="680"/>
                </a:cubicBezTo>
                <a:cubicBezTo>
                  <a:pt x="1112" y="840"/>
                  <a:pt x="976" y="1080"/>
                  <a:pt x="864" y="1256"/>
                </a:cubicBezTo>
                <a:cubicBezTo>
                  <a:pt x="752" y="1432"/>
                  <a:pt x="608" y="1632"/>
                  <a:pt x="528" y="1736"/>
                </a:cubicBezTo>
                <a:cubicBezTo>
                  <a:pt x="448" y="1840"/>
                  <a:pt x="424" y="1848"/>
                  <a:pt x="384" y="1880"/>
                </a:cubicBezTo>
                <a:cubicBezTo>
                  <a:pt x="344" y="1912"/>
                  <a:pt x="320" y="1920"/>
                  <a:pt x="288" y="1928"/>
                </a:cubicBezTo>
                <a:cubicBezTo>
                  <a:pt x="256" y="1936"/>
                  <a:pt x="232" y="1928"/>
                  <a:pt x="192" y="1928"/>
                </a:cubicBezTo>
                <a:cubicBezTo>
                  <a:pt x="152" y="1928"/>
                  <a:pt x="80" y="1928"/>
                  <a:pt x="48" y="1928"/>
                </a:cubicBezTo>
                <a:cubicBezTo>
                  <a:pt x="16" y="1928"/>
                  <a:pt x="8" y="1928"/>
                  <a:pt x="0" y="192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13258800" y="4299120"/>
            <a:ext cx="1828800" cy="501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768" h="256">
                <a:moveTo>
                  <a:pt x="768" y="64"/>
                </a:moveTo>
                <a:cubicBezTo>
                  <a:pt x="712" y="44"/>
                  <a:pt x="656" y="24"/>
                  <a:pt x="624" y="16"/>
                </a:cubicBezTo>
                <a:cubicBezTo>
                  <a:pt x="592" y="8"/>
                  <a:pt x="608" y="16"/>
                  <a:pt x="576" y="16"/>
                </a:cubicBezTo>
                <a:cubicBezTo>
                  <a:pt x="544" y="16"/>
                  <a:pt x="464" y="16"/>
                  <a:pt x="432" y="16"/>
                </a:cubicBezTo>
                <a:cubicBezTo>
                  <a:pt x="400" y="16"/>
                  <a:pt x="416" y="0"/>
                  <a:pt x="384" y="16"/>
                </a:cubicBezTo>
                <a:cubicBezTo>
                  <a:pt x="352" y="32"/>
                  <a:pt x="280" y="88"/>
                  <a:pt x="240" y="112"/>
                </a:cubicBezTo>
                <a:cubicBezTo>
                  <a:pt x="200" y="136"/>
                  <a:pt x="168" y="144"/>
                  <a:pt x="144" y="160"/>
                </a:cubicBezTo>
                <a:cubicBezTo>
                  <a:pt x="120" y="176"/>
                  <a:pt x="120" y="192"/>
                  <a:pt x="96" y="208"/>
                </a:cubicBezTo>
                <a:cubicBezTo>
                  <a:pt x="72" y="224"/>
                  <a:pt x="16" y="248"/>
                  <a:pt x="0" y="256"/>
                </a:cubicBezTo>
              </a:path>
            </a:pathLst>
          </a:custGeom>
          <a:noFill/>
          <a:ln w="1908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8572680" y="3164040"/>
            <a:ext cx="6514920" cy="188640"/>
          </a:xfrm>
          <a:custGeom>
            <a:avLst/>
            <a:gdLst>
              <a:gd name="textAreaLeft" fmla="*/ 0 w 6514920"/>
              <a:gd name="textAreaRight" fmla="*/ 6515280 w 651492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13601880" y="4518000"/>
            <a:ext cx="182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REE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6956640" y="17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7277400" y="1919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5"/>
          <p:cNvSpPr/>
          <p:nvPr/>
        </p:nvSpPr>
        <p:spPr>
          <a:xfrm>
            <a:off x="7957800" y="2300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760644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7"/>
          <p:cNvSpPr/>
          <p:nvPr/>
        </p:nvSpPr>
        <p:spPr>
          <a:xfrm>
            <a:off x="8160480" y="2468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8"/>
          <p:cNvSpPr/>
          <p:nvPr/>
        </p:nvSpPr>
        <p:spPr>
          <a:xfrm>
            <a:off x="8541000" y="2757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9"/>
          <p:cNvSpPr/>
          <p:nvPr/>
        </p:nvSpPr>
        <p:spPr>
          <a:xfrm>
            <a:off x="9201600" y="3154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0"/>
          <p:cNvSpPr/>
          <p:nvPr/>
        </p:nvSpPr>
        <p:spPr>
          <a:xfrm>
            <a:off x="8857080" y="29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1"/>
          <p:cNvSpPr/>
          <p:nvPr/>
        </p:nvSpPr>
        <p:spPr>
          <a:xfrm>
            <a:off x="9542880" y="327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2"/>
          <p:cNvSpPr/>
          <p:nvPr/>
        </p:nvSpPr>
        <p:spPr>
          <a:xfrm>
            <a:off x="9847800" y="34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3"/>
          <p:cNvSpPr/>
          <p:nvPr/>
        </p:nvSpPr>
        <p:spPr>
          <a:xfrm>
            <a:off x="10172880" y="3595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10990800" y="3887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6"/>
          <p:cNvSpPr/>
          <p:nvPr/>
        </p:nvSpPr>
        <p:spPr>
          <a:xfrm>
            <a:off x="11352600" y="3976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7"/>
          <p:cNvSpPr/>
          <p:nvPr/>
        </p:nvSpPr>
        <p:spPr>
          <a:xfrm>
            <a:off x="11724120" y="4102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12057480" y="4146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2382560" y="4249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6066360" y="4081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1"/>
          <p:cNvSpPr/>
          <p:nvPr/>
        </p:nvSpPr>
        <p:spPr>
          <a:xfrm>
            <a:off x="6286680" y="45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6510960" y="4921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6831720" y="5224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7188840" y="54687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5"/>
          <p:cNvSpPr/>
          <p:nvPr/>
        </p:nvSpPr>
        <p:spPr>
          <a:xfrm>
            <a:off x="7587000" y="5729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7942680" y="5958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7"/>
          <p:cNvSpPr/>
          <p:nvPr/>
        </p:nvSpPr>
        <p:spPr>
          <a:xfrm>
            <a:off x="8278920" y="617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8"/>
          <p:cNvSpPr/>
          <p:nvPr/>
        </p:nvSpPr>
        <p:spPr>
          <a:xfrm>
            <a:off x="8612640" y="635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8993160" y="6554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9165240" y="6719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10076400" y="716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2"/>
          <p:cNvSpPr/>
          <p:nvPr/>
        </p:nvSpPr>
        <p:spPr>
          <a:xfrm>
            <a:off x="10438200" y="7361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3"/>
          <p:cNvSpPr/>
          <p:nvPr/>
        </p:nvSpPr>
        <p:spPr>
          <a:xfrm>
            <a:off x="10809720" y="7486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11143080" y="760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5"/>
          <p:cNvSpPr/>
          <p:nvPr/>
        </p:nvSpPr>
        <p:spPr>
          <a:xfrm>
            <a:off x="11468160" y="7729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6"/>
          <p:cNvSpPr/>
          <p:nvPr/>
        </p:nvSpPr>
        <p:spPr>
          <a:xfrm>
            <a:off x="687240" y="5346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7"/>
          <p:cNvSpPr/>
          <p:nvPr/>
        </p:nvSpPr>
        <p:spPr>
          <a:xfrm>
            <a:off x="839880" y="5256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1176840" y="51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1500480" y="515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1792440" y="5119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21229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2440080" y="512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30661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354480" y="514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5"/>
          <p:cNvSpPr/>
          <p:nvPr/>
        </p:nvSpPr>
        <p:spPr>
          <a:xfrm>
            <a:off x="3675600" y="5165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6"/>
          <p:cNvSpPr/>
          <p:nvPr/>
        </p:nvSpPr>
        <p:spPr>
          <a:xfrm>
            <a:off x="3980520" y="51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268880" y="519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8"/>
          <p:cNvSpPr/>
          <p:nvPr/>
        </p:nvSpPr>
        <p:spPr>
          <a:xfrm>
            <a:off x="0" y="929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Jane  B Schuelke   More! Rocks in Your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9"/>
          <p:cNvSpPr/>
          <p:nvPr/>
        </p:nvSpPr>
        <p:spPr>
          <a:xfrm>
            <a:off x="6705720" y="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OCK IS BOR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better, Recycl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7"/>
          <p:cNvSpPr/>
          <p:nvPr/>
        </p:nvSpPr>
        <p:spPr>
          <a:xfrm>
            <a:off x="0" y="6248520"/>
            <a:ext cx="5638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96"/>
          <p:cNvSpPr/>
          <p:nvPr/>
        </p:nvSpPr>
        <p:spPr>
          <a:xfrm>
            <a:off x="-31680" y="6116760"/>
            <a:ext cx="5697360" cy="536400"/>
          </a:xfrm>
          <a:custGeom>
            <a:avLst/>
            <a:gdLst>
              <a:gd name="textAreaLeft" fmla="*/ 0 w 5697360"/>
              <a:gd name="textAreaRight" fmla="*/ 5697720 w 569736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589" h="338">
                <a:moveTo>
                  <a:pt x="3589" y="272"/>
                </a:moveTo>
                <a:cubicBezTo>
                  <a:pt x="3052" y="266"/>
                  <a:pt x="2733" y="338"/>
                  <a:pt x="2304" y="200"/>
                </a:cubicBezTo>
                <a:cubicBezTo>
                  <a:pt x="2249" y="163"/>
                  <a:pt x="2191" y="145"/>
                  <a:pt x="2129" y="128"/>
                </a:cubicBezTo>
                <a:cubicBezTo>
                  <a:pt x="2036" y="102"/>
                  <a:pt x="1947" y="69"/>
                  <a:pt x="1851" y="56"/>
                </a:cubicBezTo>
                <a:cubicBezTo>
                  <a:pt x="1693" y="0"/>
                  <a:pt x="1175" y="44"/>
                  <a:pt x="1131" y="45"/>
                </a:cubicBezTo>
                <a:cubicBezTo>
                  <a:pt x="993" y="75"/>
                  <a:pt x="861" y="105"/>
                  <a:pt x="720" y="117"/>
                </a:cubicBezTo>
                <a:cubicBezTo>
                  <a:pt x="644" y="130"/>
                  <a:pt x="577" y="161"/>
                  <a:pt x="504" y="179"/>
                </a:cubicBezTo>
                <a:cubicBezTo>
                  <a:pt x="416" y="200"/>
                  <a:pt x="339" y="213"/>
                  <a:pt x="247" y="220"/>
                </a:cubicBezTo>
                <a:cubicBezTo>
                  <a:pt x="226" y="227"/>
                  <a:pt x="203" y="229"/>
                  <a:pt x="185" y="241"/>
                </a:cubicBezTo>
                <a:cubicBezTo>
                  <a:pt x="175" y="248"/>
                  <a:pt x="165" y="256"/>
                  <a:pt x="154" y="261"/>
                </a:cubicBezTo>
                <a:cubicBezTo>
                  <a:pt x="134" y="270"/>
                  <a:pt x="110" y="270"/>
                  <a:pt x="92" y="282"/>
                </a:cubicBezTo>
                <a:cubicBezTo>
                  <a:pt x="82" y="289"/>
                  <a:pt x="72" y="297"/>
                  <a:pt x="61" y="302"/>
                </a:cubicBezTo>
                <a:cubicBezTo>
                  <a:pt x="48" y="308"/>
                  <a:pt x="33" y="308"/>
                  <a:pt x="20" y="313"/>
                </a:cubicBezTo>
                <a:cubicBezTo>
                  <a:pt x="13" y="315"/>
                  <a:pt x="7" y="320"/>
                  <a:pt x="0" y="323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8" descr="j0233594"/>
          <p:cNvPicPr/>
          <p:nvPr/>
        </p:nvPicPr>
        <p:blipFill>
          <a:blip r:embed="rId1"/>
          <a:stretch/>
        </p:blipFill>
        <p:spPr>
          <a:xfrm>
            <a:off x="14630400" y="407520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99" name="Line 101"/>
          <p:cNvSpPr/>
          <p:nvPr/>
        </p:nvSpPr>
        <p:spPr>
          <a:xfrm>
            <a:off x="6356520" y="1508040"/>
            <a:ext cx="152280" cy="152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2"/>
          <p:cNvSpPr/>
          <p:nvPr/>
        </p:nvSpPr>
        <p:spPr>
          <a:xfrm rot="530400">
            <a:off x="11124720" y="816768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eat and pressure change rock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"/>
          <p:cNvSpPr/>
          <p:nvPr/>
        </p:nvSpPr>
        <p:spPr>
          <a:xfrm>
            <a:off x="1219320" y="5576760"/>
            <a:ext cx="33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6600ff"/>
                </a:solidFill>
                <a:latin typeface="Arial"/>
              </a:rPr>
              <a:t>Solidified magma or lava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93"/>
          <p:cNvSpPr/>
          <p:nvPr/>
        </p:nvSpPr>
        <p:spPr>
          <a:xfrm>
            <a:off x="5665680" y="6548400"/>
            <a:ext cx="430200" cy="13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8" descr="j0233594"/>
          <p:cNvPicPr/>
          <p:nvPr/>
        </p:nvPicPr>
        <p:blipFill>
          <a:blip r:embed="rId2"/>
          <a:stretch/>
        </p:blipFill>
        <p:spPr>
          <a:xfrm>
            <a:off x="228600" y="3352680"/>
            <a:ext cx="228600" cy="11592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Connector 95"/>
          <p:cNvCxnSpPr/>
          <p:nvPr/>
        </p:nvCxnSpPr>
        <p:spPr>
          <a:xfrm flipV="1">
            <a:off x="3962520" y="1066320"/>
            <a:ext cx="838800" cy="153360"/>
          </a:xfrm>
          <a:prstGeom prst="curvedConnector5">
            <a:avLst>
              <a:gd name="adj1" fmla="val 40875"/>
              <a:gd name="adj2" fmla="val 49882"/>
              <a:gd name="adj3" fmla="val 40875"/>
            </a:avLst>
          </a:prstGeom>
          <a:ln w="54000">
            <a:solidFill>
              <a:srgbClr val="ff0000"/>
            </a:solidFill>
            <a:miter/>
          </a:ln>
        </p:spPr>
      </p:cxn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657600" y="1676520"/>
            <a:ext cx="251928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8" descr="j0233594"/>
          <p:cNvPicPr/>
          <p:nvPr/>
        </p:nvPicPr>
        <p:blipFill>
          <a:blip r:embed="rId4"/>
          <a:stretch/>
        </p:blipFill>
        <p:spPr>
          <a:xfrm flipH="1">
            <a:off x="914400" y="3884760"/>
            <a:ext cx="380880" cy="193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8" descr="j0233594"/>
          <p:cNvPicPr/>
          <p:nvPr/>
        </p:nvPicPr>
        <p:blipFill>
          <a:blip r:embed="rId5"/>
          <a:stretch/>
        </p:blipFill>
        <p:spPr>
          <a:xfrm>
            <a:off x="228600" y="4038480"/>
            <a:ext cx="60156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9" descr="j0233594"/>
          <p:cNvPicPr/>
          <p:nvPr/>
        </p:nvPicPr>
        <p:blipFill>
          <a:blip r:embed="rId6"/>
          <a:stretch/>
        </p:blipFill>
        <p:spPr>
          <a:xfrm>
            <a:off x="11430000" y="3505320"/>
            <a:ext cx="601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8" descr="j0233594"/>
          <p:cNvPicPr/>
          <p:nvPr/>
        </p:nvPicPr>
        <p:blipFill>
          <a:blip r:embed="rId7"/>
          <a:stretch/>
        </p:blipFill>
        <p:spPr>
          <a:xfrm flipH="1">
            <a:off x="13030200" y="4152960"/>
            <a:ext cx="457200" cy="231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8" descr="j0233594"/>
          <p:cNvPicPr/>
          <p:nvPr/>
        </p:nvPicPr>
        <p:blipFill>
          <a:blip r:embed="rId8"/>
          <a:stretch/>
        </p:blipFill>
        <p:spPr>
          <a:xfrm flipH="1">
            <a:off x="13792320" y="3738600"/>
            <a:ext cx="304560" cy="15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8" descr="j0233594"/>
          <p:cNvPicPr/>
          <p:nvPr/>
        </p:nvPicPr>
        <p:blipFill>
          <a:blip r:embed="rId9"/>
          <a:stretch/>
        </p:blipFill>
        <p:spPr>
          <a:xfrm>
            <a:off x="12801600" y="3505320"/>
            <a:ext cx="228600" cy="11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8" descr="j0233594"/>
          <p:cNvPicPr/>
          <p:nvPr/>
        </p:nvPicPr>
        <p:blipFill>
          <a:blip r:embed="rId10"/>
          <a:stretch/>
        </p:blipFill>
        <p:spPr>
          <a:xfrm flipH="1">
            <a:off x="609480" y="3505320"/>
            <a:ext cx="300240" cy="152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04"/>
          <p:cNvSpPr/>
          <p:nvPr/>
        </p:nvSpPr>
        <p:spPr>
          <a:xfrm>
            <a:off x="1447920" y="670572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ock Cycle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0"/>
          <p:cNvSpPr/>
          <p:nvPr/>
        </p:nvSpPr>
        <p:spPr>
          <a:xfrm rot="1838400">
            <a:off x="4522320" y="130788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Sediment weathers &amp; erodes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1"/>
          <a:stretch/>
        </p:blipFill>
        <p:spPr>
          <a:xfrm>
            <a:off x="2971800" y="0"/>
            <a:ext cx="1981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reeform 29"/>
          <p:cNvSpPr/>
          <p:nvPr/>
        </p:nvSpPr>
        <p:spPr>
          <a:xfrm>
            <a:off x="0" y="3124080"/>
            <a:ext cx="6515280" cy="189000"/>
          </a:xfrm>
          <a:custGeom>
            <a:avLst/>
            <a:gdLst>
              <a:gd name="textAreaLeft" fmla="*/ 0 w 6515280"/>
              <a:gd name="textAreaRight" fmla="*/ 6515640 w 6515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1"/>
          <p:cNvSpPr/>
          <p:nvPr/>
        </p:nvSpPr>
        <p:spPr>
          <a:xfrm>
            <a:off x="2133720" y="2895480"/>
            <a:ext cx="4876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4762440" y="914400"/>
            <a:ext cx="10325160" cy="7939080"/>
          </a:xfrm>
          <a:custGeom>
            <a:avLst/>
            <a:gdLst>
              <a:gd name="textAreaLeft" fmla="*/ 0 w 10325160"/>
              <a:gd name="textAreaRight" fmla="*/ 10325520 w 10325160"/>
              <a:gd name="textAreaTop" fmla="*/ 0 h 7939080"/>
              <a:gd name="textAreaBottom" fmla="*/ 7939440 h 7939080"/>
            </a:gdLst>
            <a:ahLst/>
            <a:rect l="textAreaLeft" t="textAreaTop" r="textAreaRight" b="textAreaBottom"/>
            <a:pathLst>
              <a:path w="4336" h="4048">
                <a:moveTo>
                  <a:pt x="4336" y="2080"/>
                </a:moveTo>
                <a:cubicBezTo>
                  <a:pt x="4116" y="2064"/>
                  <a:pt x="3896" y="2048"/>
                  <a:pt x="3760" y="2032"/>
                </a:cubicBezTo>
                <a:cubicBezTo>
                  <a:pt x="3624" y="2016"/>
                  <a:pt x="3624" y="2008"/>
                  <a:pt x="3520" y="1984"/>
                </a:cubicBezTo>
                <a:cubicBezTo>
                  <a:pt x="3416" y="1960"/>
                  <a:pt x="3248" y="1920"/>
                  <a:pt x="3136" y="1888"/>
                </a:cubicBezTo>
                <a:cubicBezTo>
                  <a:pt x="3024" y="1856"/>
                  <a:pt x="2944" y="1824"/>
                  <a:pt x="2848" y="1792"/>
                </a:cubicBezTo>
                <a:cubicBezTo>
                  <a:pt x="2752" y="1760"/>
                  <a:pt x="2672" y="1744"/>
                  <a:pt x="2560" y="1696"/>
                </a:cubicBezTo>
                <a:cubicBezTo>
                  <a:pt x="2448" y="1648"/>
                  <a:pt x="2312" y="1576"/>
                  <a:pt x="2176" y="1504"/>
                </a:cubicBezTo>
                <a:cubicBezTo>
                  <a:pt x="2040" y="1432"/>
                  <a:pt x="1872" y="1352"/>
                  <a:pt x="1744" y="1264"/>
                </a:cubicBezTo>
                <a:cubicBezTo>
                  <a:pt x="1616" y="1176"/>
                  <a:pt x="1520" y="1064"/>
                  <a:pt x="1408" y="976"/>
                </a:cubicBezTo>
                <a:cubicBezTo>
                  <a:pt x="1296" y="888"/>
                  <a:pt x="1168" y="808"/>
                  <a:pt x="1072" y="736"/>
                </a:cubicBezTo>
                <a:cubicBezTo>
                  <a:pt x="976" y="664"/>
                  <a:pt x="904" y="608"/>
                  <a:pt x="832" y="544"/>
                </a:cubicBezTo>
                <a:cubicBezTo>
                  <a:pt x="760" y="480"/>
                  <a:pt x="728" y="424"/>
                  <a:pt x="640" y="352"/>
                </a:cubicBezTo>
                <a:cubicBezTo>
                  <a:pt x="552" y="280"/>
                  <a:pt x="376" y="168"/>
                  <a:pt x="304" y="112"/>
                </a:cubicBezTo>
                <a:cubicBezTo>
                  <a:pt x="232" y="56"/>
                  <a:pt x="240" y="32"/>
                  <a:pt x="208" y="16"/>
                </a:cubicBezTo>
                <a:cubicBezTo>
                  <a:pt x="176" y="0"/>
                  <a:pt x="144" y="8"/>
                  <a:pt x="112" y="16"/>
                </a:cubicBezTo>
                <a:cubicBezTo>
                  <a:pt x="80" y="24"/>
                  <a:pt x="32" y="40"/>
                  <a:pt x="16" y="64"/>
                </a:cubicBezTo>
                <a:cubicBezTo>
                  <a:pt x="0" y="88"/>
                  <a:pt x="16" y="120"/>
                  <a:pt x="16" y="160"/>
                </a:cubicBezTo>
                <a:cubicBezTo>
                  <a:pt x="16" y="200"/>
                  <a:pt x="8" y="232"/>
                  <a:pt x="16" y="304"/>
                </a:cubicBezTo>
                <a:cubicBezTo>
                  <a:pt x="24" y="376"/>
                  <a:pt x="40" y="488"/>
                  <a:pt x="64" y="592"/>
                </a:cubicBezTo>
                <a:cubicBezTo>
                  <a:pt x="88" y="696"/>
                  <a:pt x="120" y="808"/>
                  <a:pt x="160" y="928"/>
                </a:cubicBezTo>
                <a:cubicBezTo>
                  <a:pt x="200" y="1048"/>
                  <a:pt x="248" y="1176"/>
                  <a:pt x="304" y="1312"/>
                </a:cubicBezTo>
                <a:cubicBezTo>
                  <a:pt x="360" y="1448"/>
                  <a:pt x="416" y="1576"/>
                  <a:pt x="496" y="1744"/>
                </a:cubicBezTo>
                <a:cubicBezTo>
                  <a:pt x="576" y="1912"/>
                  <a:pt x="688" y="2176"/>
                  <a:pt x="784" y="2320"/>
                </a:cubicBezTo>
                <a:cubicBezTo>
                  <a:pt x="880" y="2464"/>
                  <a:pt x="968" y="2512"/>
                  <a:pt x="1072" y="2608"/>
                </a:cubicBezTo>
                <a:cubicBezTo>
                  <a:pt x="1176" y="2704"/>
                  <a:pt x="1280" y="2800"/>
                  <a:pt x="1408" y="2896"/>
                </a:cubicBezTo>
                <a:cubicBezTo>
                  <a:pt x="1536" y="2992"/>
                  <a:pt x="1696" y="3088"/>
                  <a:pt x="1840" y="3184"/>
                </a:cubicBezTo>
                <a:cubicBezTo>
                  <a:pt x="1984" y="3280"/>
                  <a:pt x="2096" y="3376"/>
                  <a:pt x="2272" y="3472"/>
                </a:cubicBezTo>
                <a:cubicBezTo>
                  <a:pt x="2448" y="3568"/>
                  <a:pt x="2688" y="3688"/>
                  <a:pt x="2896" y="3760"/>
                </a:cubicBezTo>
                <a:cubicBezTo>
                  <a:pt x="3104" y="3832"/>
                  <a:pt x="3328" y="3864"/>
                  <a:pt x="3520" y="3904"/>
                </a:cubicBezTo>
                <a:cubicBezTo>
                  <a:pt x="3712" y="3944"/>
                  <a:pt x="3912" y="3976"/>
                  <a:pt x="4048" y="4000"/>
                </a:cubicBezTo>
                <a:cubicBezTo>
                  <a:pt x="4184" y="4024"/>
                  <a:pt x="4260" y="4036"/>
                  <a:pt x="4336" y="404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1"/>
          <p:cNvSpPr/>
          <p:nvPr/>
        </p:nvSpPr>
        <p:spPr>
          <a:xfrm>
            <a:off x="-114480" y="1158840"/>
            <a:ext cx="6115320" cy="5851440"/>
          </a:xfrm>
          <a:custGeom>
            <a:avLst/>
            <a:gdLst>
              <a:gd name="textAreaLeft" fmla="*/ 0 w 6115320"/>
              <a:gd name="textAreaRight" fmla="*/ 6115680 w 6115320"/>
              <a:gd name="textAreaTop" fmla="*/ 0 h 5851440"/>
              <a:gd name="textAreaBottom" fmla="*/ 5851800 h 5851440"/>
            </a:gdLst>
            <a:ahLst/>
            <a:rect l="textAreaLeft" t="textAreaTop" r="textAreaRight" b="textAreaBottom"/>
            <a:pathLst>
              <a:path w="2568" h="2984">
                <a:moveTo>
                  <a:pt x="48" y="2984"/>
                </a:moveTo>
                <a:cubicBezTo>
                  <a:pt x="92" y="2968"/>
                  <a:pt x="136" y="2952"/>
                  <a:pt x="192" y="2936"/>
                </a:cubicBezTo>
                <a:cubicBezTo>
                  <a:pt x="248" y="2920"/>
                  <a:pt x="312" y="2912"/>
                  <a:pt x="384" y="2888"/>
                </a:cubicBezTo>
                <a:cubicBezTo>
                  <a:pt x="456" y="2864"/>
                  <a:pt x="552" y="2824"/>
                  <a:pt x="624" y="2792"/>
                </a:cubicBezTo>
                <a:cubicBezTo>
                  <a:pt x="696" y="2760"/>
                  <a:pt x="760" y="2720"/>
                  <a:pt x="816" y="2696"/>
                </a:cubicBezTo>
                <a:cubicBezTo>
                  <a:pt x="872" y="2672"/>
                  <a:pt x="912" y="2656"/>
                  <a:pt x="960" y="2648"/>
                </a:cubicBezTo>
                <a:cubicBezTo>
                  <a:pt x="1008" y="2640"/>
                  <a:pt x="1048" y="2648"/>
                  <a:pt x="1104" y="2648"/>
                </a:cubicBezTo>
                <a:cubicBezTo>
                  <a:pt x="1160" y="2648"/>
                  <a:pt x="1248" y="2640"/>
                  <a:pt x="1296" y="2648"/>
                </a:cubicBezTo>
                <a:cubicBezTo>
                  <a:pt x="1344" y="2656"/>
                  <a:pt x="1344" y="2680"/>
                  <a:pt x="1392" y="2696"/>
                </a:cubicBezTo>
                <a:cubicBezTo>
                  <a:pt x="1440" y="2712"/>
                  <a:pt x="1528" y="2736"/>
                  <a:pt x="1584" y="2744"/>
                </a:cubicBezTo>
                <a:cubicBezTo>
                  <a:pt x="1640" y="2752"/>
                  <a:pt x="1648" y="2744"/>
                  <a:pt x="1728" y="2744"/>
                </a:cubicBezTo>
                <a:cubicBezTo>
                  <a:pt x="1808" y="2744"/>
                  <a:pt x="1968" y="2744"/>
                  <a:pt x="2064" y="2744"/>
                </a:cubicBezTo>
                <a:cubicBezTo>
                  <a:pt x="2160" y="2744"/>
                  <a:pt x="2240" y="2744"/>
                  <a:pt x="2304" y="2744"/>
                </a:cubicBezTo>
                <a:cubicBezTo>
                  <a:pt x="2368" y="2744"/>
                  <a:pt x="2408" y="2760"/>
                  <a:pt x="2448" y="2744"/>
                </a:cubicBezTo>
                <a:cubicBezTo>
                  <a:pt x="2488" y="2728"/>
                  <a:pt x="2528" y="2688"/>
                  <a:pt x="2544" y="2648"/>
                </a:cubicBezTo>
                <a:cubicBezTo>
                  <a:pt x="2560" y="2608"/>
                  <a:pt x="2568" y="2568"/>
                  <a:pt x="2544" y="2504"/>
                </a:cubicBezTo>
                <a:cubicBezTo>
                  <a:pt x="2520" y="2440"/>
                  <a:pt x="2464" y="2392"/>
                  <a:pt x="2400" y="2264"/>
                </a:cubicBezTo>
                <a:cubicBezTo>
                  <a:pt x="2336" y="2136"/>
                  <a:pt x="2232" y="1912"/>
                  <a:pt x="2160" y="1736"/>
                </a:cubicBezTo>
                <a:cubicBezTo>
                  <a:pt x="2088" y="1560"/>
                  <a:pt x="2016" y="1376"/>
                  <a:pt x="1968" y="1208"/>
                </a:cubicBezTo>
                <a:cubicBezTo>
                  <a:pt x="1920" y="1040"/>
                  <a:pt x="1904" y="888"/>
                  <a:pt x="1872" y="728"/>
                </a:cubicBezTo>
                <a:cubicBezTo>
                  <a:pt x="1840" y="568"/>
                  <a:pt x="1800" y="360"/>
                  <a:pt x="1776" y="248"/>
                </a:cubicBezTo>
                <a:cubicBezTo>
                  <a:pt x="1752" y="136"/>
                  <a:pt x="1760" y="96"/>
                  <a:pt x="1728" y="56"/>
                </a:cubicBezTo>
                <a:cubicBezTo>
                  <a:pt x="1696" y="16"/>
                  <a:pt x="1624" y="0"/>
                  <a:pt x="1584" y="8"/>
                </a:cubicBezTo>
                <a:cubicBezTo>
                  <a:pt x="1544" y="16"/>
                  <a:pt x="1520" y="56"/>
                  <a:pt x="1488" y="104"/>
                </a:cubicBezTo>
                <a:cubicBezTo>
                  <a:pt x="1456" y="152"/>
                  <a:pt x="1440" y="200"/>
                  <a:pt x="1392" y="296"/>
                </a:cubicBezTo>
                <a:cubicBezTo>
                  <a:pt x="1344" y="392"/>
                  <a:pt x="1288" y="520"/>
                  <a:pt x="1200" y="680"/>
                </a:cubicBezTo>
                <a:cubicBezTo>
                  <a:pt x="1112" y="840"/>
                  <a:pt x="976" y="1080"/>
                  <a:pt x="864" y="1256"/>
                </a:cubicBezTo>
                <a:cubicBezTo>
                  <a:pt x="752" y="1432"/>
                  <a:pt x="608" y="1632"/>
                  <a:pt x="528" y="1736"/>
                </a:cubicBezTo>
                <a:cubicBezTo>
                  <a:pt x="448" y="1840"/>
                  <a:pt x="424" y="1848"/>
                  <a:pt x="384" y="1880"/>
                </a:cubicBezTo>
                <a:cubicBezTo>
                  <a:pt x="344" y="1912"/>
                  <a:pt x="320" y="1920"/>
                  <a:pt x="288" y="1928"/>
                </a:cubicBezTo>
                <a:cubicBezTo>
                  <a:pt x="256" y="1936"/>
                  <a:pt x="232" y="1928"/>
                  <a:pt x="192" y="1928"/>
                </a:cubicBezTo>
                <a:cubicBezTo>
                  <a:pt x="152" y="1928"/>
                  <a:pt x="80" y="1928"/>
                  <a:pt x="48" y="1928"/>
                </a:cubicBezTo>
                <a:cubicBezTo>
                  <a:pt x="16" y="1928"/>
                  <a:pt x="8" y="1928"/>
                  <a:pt x="0" y="192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13258800" y="4299120"/>
            <a:ext cx="1828800" cy="501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768" h="256">
                <a:moveTo>
                  <a:pt x="768" y="64"/>
                </a:moveTo>
                <a:cubicBezTo>
                  <a:pt x="712" y="44"/>
                  <a:pt x="656" y="24"/>
                  <a:pt x="624" y="16"/>
                </a:cubicBezTo>
                <a:cubicBezTo>
                  <a:pt x="592" y="8"/>
                  <a:pt x="608" y="16"/>
                  <a:pt x="576" y="16"/>
                </a:cubicBezTo>
                <a:cubicBezTo>
                  <a:pt x="544" y="16"/>
                  <a:pt x="464" y="16"/>
                  <a:pt x="432" y="16"/>
                </a:cubicBezTo>
                <a:cubicBezTo>
                  <a:pt x="400" y="16"/>
                  <a:pt x="416" y="0"/>
                  <a:pt x="384" y="16"/>
                </a:cubicBezTo>
                <a:cubicBezTo>
                  <a:pt x="352" y="32"/>
                  <a:pt x="280" y="88"/>
                  <a:pt x="240" y="112"/>
                </a:cubicBezTo>
                <a:cubicBezTo>
                  <a:pt x="200" y="136"/>
                  <a:pt x="168" y="144"/>
                  <a:pt x="144" y="160"/>
                </a:cubicBezTo>
                <a:cubicBezTo>
                  <a:pt x="120" y="176"/>
                  <a:pt x="120" y="192"/>
                  <a:pt x="96" y="208"/>
                </a:cubicBezTo>
                <a:cubicBezTo>
                  <a:pt x="72" y="224"/>
                  <a:pt x="16" y="248"/>
                  <a:pt x="0" y="256"/>
                </a:cubicBezTo>
              </a:path>
            </a:pathLst>
          </a:custGeom>
          <a:noFill/>
          <a:ln w="1908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3"/>
          <p:cNvSpPr/>
          <p:nvPr/>
        </p:nvSpPr>
        <p:spPr>
          <a:xfrm>
            <a:off x="8572680" y="3164040"/>
            <a:ext cx="6514920" cy="188640"/>
          </a:xfrm>
          <a:custGeom>
            <a:avLst/>
            <a:gdLst>
              <a:gd name="textAreaLeft" fmla="*/ 0 w 6514920"/>
              <a:gd name="textAreaRight" fmla="*/ 6515280 w 651492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3601880" y="4518000"/>
            <a:ext cx="182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REE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4952880" y="849312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alloonEFExtraBold"/>
              </a:rPr>
              <a:t>MAGMA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6" descr="BD21298_"/>
          <p:cNvPicPr/>
          <p:nvPr/>
        </p:nvPicPr>
        <p:blipFill>
          <a:blip r:embed="rId1"/>
          <a:stretch/>
        </p:blipFill>
        <p:spPr>
          <a:xfrm rot="541800">
            <a:off x="12191760" y="89625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1" descr="BD21298_"/>
          <p:cNvPicPr/>
          <p:nvPr/>
        </p:nvPicPr>
        <p:blipFill>
          <a:blip r:embed="rId2"/>
          <a:stretch/>
        </p:blipFill>
        <p:spPr>
          <a:xfrm rot="2125200">
            <a:off x="2906280" y="930240"/>
            <a:ext cx="451080" cy="123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3"/>
          <p:cNvSpPr/>
          <p:nvPr/>
        </p:nvSpPr>
        <p:spPr>
          <a:xfrm>
            <a:off x="6956640" y="17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7277400" y="1919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7957800" y="2300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760644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8160480" y="2468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8541000" y="2757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9"/>
          <p:cNvSpPr/>
          <p:nvPr/>
        </p:nvSpPr>
        <p:spPr>
          <a:xfrm>
            <a:off x="9201600" y="3154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8857080" y="29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9542880" y="327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9847800" y="34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10172880" y="3595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5"/>
          <p:cNvSpPr/>
          <p:nvPr/>
        </p:nvSpPr>
        <p:spPr>
          <a:xfrm>
            <a:off x="10990800" y="3887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6"/>
          <p:cNvSpPr/>
          <p:nvPr/>
        </p:nvSpPr>
        <p:spPr>
          <a:xfrm>
            <a:off x="11352600" y="3976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11724120" y="4102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8"/>
          <p:cNvSpPr/>
          <p:nvPr/>
        </p:nvSpPr>
        <p:spPr>
          <a:xfrm>
            <a:off x="12057480" y="4146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12382560" y="4249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0"/>
          <p:cNvSpPr/>
          <p:nvPr/>
        </p:nvSpPr>
        <p:spPr>
          <a:xfrm>
            <a:off x="6066360" y="4081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1"/>
          <p:cNvSpPr/>
          <p:nvPr/>
        </p:nvSpPr>
        <p:spPr>
          <a:xfrm>
            <a:off x="6286680" y="45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6510960" y="4921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6831720" y="5224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7188840" y="54687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7587000" y="5729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6"/>
          <p:cNvSpPr/>
          <p:nvPr/>
        </p:nvSpPr>
        <p:spPr>
          <a:xfrm>
            <a:off x="7942680" y="5958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7"/>
          <p:cNvSpPr/>
          <p:nvPr/>
        </p:nvSpPr>
        <p:spPr>
          <a:xfrm>
            <a:off x="8278920" y="617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8612640" y="635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9"/>
          <p:cNvSpPr/>
          <p:nvPr/>
        </p:nvSpPr>
        <p:spPr>
          <a:xfrm>
            <a:off x="8993160" y="6554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0"/>
          <p:cNvSpPr/>
          <p:nvPr/>
        </p:nvSpPr>
        <p:spPr>
          <a:xfrm>
            <a:off x="9165240" y="6719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1"/>
          <p:cNvSpPr/>
          <p:nvPr/>
        </p:nvSpPr>
        <p:spPr>
          <a:xfrm>
            <a:off x="10076400" y="716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10438200" y="7361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0809720" y="7486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4"/>
          <p:cNvSpPr/>
          <p:nvPr/>
        </p:nvSpPr>
        <p:spPr>
          <a:xfrm>
            <a:off x="11143080" y="760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5"/>
          <p:cNvSpPr/>
          <p:nvPr/>
        </p:nvSpPr>
        <p:spPr>
          <a:xfrm>
            <a:off x="11468160" y="7729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6"/>
          <p:cNvSpPr/>
          <p:nvPr/>
        </p:nvSpPr>
        <p:spPr>
          <a:xfrm>
            <a:off x="687240" y="5346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7"/>
          <p:cNvSpPr/>
          <p:nvPr/>
        </p:nvSpPr>
        <p:spPr>
          <a:xfrm>
            <a:off x="839880" y="5256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8"/>
          <p:cNvSpPr/>
          <p:nvPr/>
        </p:nvSpPr>
        <p:spPr>
          <a:xfrm>
            <a:off x="1176840" y="51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9"/>
          <p:cNvSpPr/>
          <p:nvPr/>
        </p:nvSpPr>
        <p:spPr>
          <a:xfrm>
            <a:off x="1500480" y="515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0"/>
          <p:cNvSpPr/>
          <p:nvPr/>
        </p:nvSpPr>
        <p:spPr>
          <a:xfrm>
            <a:off x="1792440" y="5119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1"/>
          <p:cNvSpPr/>
          <p:nvPr/>
        </p:nvSpPr>
        <p:spPr>
          <a:xfrm>
            <a:off x="21229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2"/>
          <p:cNvSpPr/>
          <p:nvPr/>
        </p:nvSpPr>
        <p:spPr>
          <a:xfrm>
            <a:off x="2440080" y="512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3"/>
          <p:cNvSpPr/>
          <p:nvPr/>
        </p:nvSpPr>
        <p:spPr>
          <a:xfrm>
            <a:off x="30661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3354480" y="514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3675600" y="5165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3980520" y="51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4268880" y="519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8"/>
          <p:cNvSpPr/>
          <p:nvPr/>
        </p:nvSpPr>
        <p:spPr>
          <a:xfrm>
            <a:off x="0" y="929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Jane  B Schuelke   More! Rocks in Your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7"/>
          <p:cNvSpPr/>
          <p:nvPr/>
        </p:nvSpPr>
        <p:spPr>
          <a:xfrm>
            <a:off x="0" y="6248520"/>
            <a:ext cx="5638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9"/>
          <p:cNvSpPr/>
          <p:nvPr/>
        </p:nvSpPr>
        <p:spPr>
          <a:xfrm>
            <a:off x="6781680" y="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OCK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OR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Igneo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The First Rock and is Fire Forme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-31680" y="6116760"/>
            <a:ext cx="5697360" cy="536400"/>
          </a:xfrm>
          <a:custGeom>
            <a:avLst/>
            <a:gdLst>
              <a:gd name="textAreaLeft" fmla="*/ 0 w 5697360"/>
              <a:gd name="textAreaRight" fmla="*/ 5697720 w 569736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589" h="338">
                <a:moveTo>
                  <a:pt x="3589" y="272"/>
                </a:moveTo>
                <a:cubicBezTo>
                  <a:pt x="3052" y="266"/>
                  <a:pt x="2733" y="338"/>
                  <a:pt x="2304" y="200"/>
                </a:cubicBezTo>
                <a:cubicBezTo>
                  <a:pt x="2249" y="163"/>
                  <a:pt x="2191" y="145"/>
                  <a:pt x="2129" y="128"/>
                </a:cubicBezTo>
                <a:cubicBezTo>
                  <a:pt x="2036" y="102"/>
                  <a:pt x="1947" y="69"/>
                  <a:pt x="1851" y="56"/>
                </a:cubicBezTo>
                <a:cubicBezTo>
                  <a:pt x="1693" y="0"/>
                  <a:pt x="1175" y="44"/>
                  <a:pt x="1131" y="45"/>
                </a:cubicBezTo>
                <a:cubicBezTo>
                  <a:pt x="993" y="75"/>
                  <a:pt x="861" y="105"/>
                  <a:pt x="720" y="117"/>
                </a:cubicBezTo>
                <a:cubicBezTo>
                  <a:pt x="644" y="130"/>
                  <a:pt x="577" y="161"/>
                  <a:pt x="504" y="179"/>
                </a:cubicBezTo>
                <a:cubicBezTo>
                  <a:pt x="416" y="200"/>
                  <a:pt x="339" y="213"/>
                  <a:pt x="247" y="220"/>
                </a:cubicBezTo>
                <a:cubicBezTo>
                  <a:pt x="226" y="227"/>
                  <a:pt x="203" y="229"/>
                  <a:pt x="185" y="241"/>
                </a:cubicBezTo>
                <a:cubicBezTo>
                  <a:pt x="175" y="248"/>
                  <a:pt x="165" y="256"/>
                  <a:pt x="154" y="261"/>
                </a:cubicBezTo>
                <a:cubicBezTo>
                  <a:pt x="134" y="270"/>
                  <a:pt x="110" y="270"/>
                  <a:pt x="92" y="282"/>
                </a:cubicBezTo>
                <a:cubicBezTo>
                  <a:pt x="82" y="289"/>
                  <a:pt x="72" y="297"/>
                  <a:pt x="61" y="302"/>
                </a:cubicBezTo>
                <a:cubicBezTo>
                  <a:pt x="48" y="308"/>
                  <a:pt x="33" y="308"/>
                  <a:pt x="20" y="313"/>
                </a:cubicBezTo>
                <a:cubicBezTo>
                  <a:pt x="13" y="315"/>
                  <a:pt x="7" y="320"/>
                  <a:pt x="0" y="323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8" descr="j0233594"/>
          <p:cNvPicPr/>
          <p:nvPr/>
        </p:nvPicPr>
        <p:blipFill>
          <a:blip r:embed="rId3"/>
          <a:stretch/>
        </p:blipFill>
        <p:spPr>
          <a:xfrm>
            <a:off x="14630400" y="407520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2"/>
          <p:cNvSpPr/>
          <p:nvPr/>
        </p:nvSpPr>
        <p:spPr>
          <a:xfrm rot="530400">
            <a:off x="11124720" y="816768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eat and pressure change rock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3"/>
          <p:cNvSpPr/>
          <p:nvPr/>
        </p:nvSpPr>
        <p:spPr>
          <a:xfrm>
            <a:off x="1219320" y="5576760"/>
            <a:ext cx="33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6600ff"/>
                </a:solidFill>
                <a:latin typeface="Arial"/>
              </a:rPr>
              <a:t>Solidified magma or lava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6629400" y="7467480"/>
            <a:ext cx="2286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Magma Chamb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93"/>
          <p:cNvSpPr/>
          <p:nvPr/>
        </p:nvSpPr>
        <p:spPr>
          <a:xfrm>
            <a:off x="5665680" y="6548400"/>
            <a:ext cx="430200" cy="13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8763120" y="876312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High Heat &amp; Pressu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67280" y="617220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oler &amp; Less Pressu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 rot="4471800">
            <a:off x="3867840" y="265932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Soda Bottle Eruptio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8" descr="j0233594"/>
          <p:cNvPicPr/>
          <p:nvPr/>
        </p:nvPicPr>
        <p:blipFill>
          <a:blip r:embed="rId4"/>
          <a:stretch/>
        </p:blipFill>
        <p:spPr>
          <a:xfrm>
            <a:off x="228600" y="335268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183" name="Freeform 12"/>
          <p:cNvSpPr/>
          <p:nvPr/>
        </p:nvSpPr>
        <p:spPr>
          <a:xfrm flipH="1">
            <a:off x="5167440" y="6400800"/>
            <a:ext cx="1309680" cy="3200400"/>
          </a:xfrm>
          <a:custGeom>
            <a:avLst/>
            <a:gdLst>
              <a:gd name="textAreaLeft" fmla="*/ 360 w 1309680"/>
              <a:gd name="textAreaRight" fmla="*/ 1310400 w 130968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0000" h="10615">
                <a:moveTo>
                  <a:pt x="8052" y="808"/>
                </a:moveTo>
                <a:cubicBezTo>
                  <a:pt x="7335" y="0"/>
                  <a:pt x="7754" y="717"/>
                  <a:pt x="8052" y="1353"/>
                </a:cubicBezTo>
                <a:cubicBezTo>
                  <a:pt x="8350" y="1989"/>
                  <a:pt x="9683" y="3822"/>
                  <a:pt x="9841" y="4622"/>
                </a:cubicBezTo>
                <a:cubicBezTo>
                  <a:pt x="10000" y="5422"/>
                  <a:pt x="9393" y="5348"/>
                  <a:pt x="8946" y="5711"/>
                </a:cubicBezTo>
                <a:cubicBezTo>
                  <a:pt x="8499" y="6074"/>
                  <a:pt x="7903" y="6347"/>
                  <a:pt x="7157" y="6801"/>
                </a:cubicBezTo>
                <a:lnTo>
                  <a:pt x="4473" y="8436"/>
                </a:lnTo>
                <a:cubicBezTo>
                  <a:pt x="3728" y="8890"/>
                  <a:pt x="3280" y="9253"/>
                  <a:pt x="2684" y="9525"/>
                </a:cubicBezTo>
                <a:cubicBezTo>
                  <a:pt x="2088" y="9797"/>
                  <a:pt x="1342" y="9888"/>
                  <a:pt x="895" y="10070"/>
                </a:cubicBezTo>
                <a:cubicBezTo>
                  <a:pt x="448" y="10252"/>
                  <a:pt x="205" y="10292"/>
                  <a:pt x="0" y="1061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Straight Connector 95"/>
          <p:cNvCxnSpPr/>
          <p:nvPr/>
        </p:nvCxnSpPr>
        <p:spPr>
          <a:xfrm flipV="1">
            <a:off x="3962520" y="1066320"/>
            <a:ext cx="838800" cy="153360"/>
          </a:xfrm>
          <a:prstGeom prst="curvedConnector5">
            <a:avLst>
              <a:gd name="adj1" fmla="val 40875"/>
              <a:gd name="adj2" fmla="val 49882"/>
              <a:gd name="adj3" fmla="val 40875"/>
            </a:avLst>
          </a:prstGeom>
          <a:ln w="54000">
            <a:solidFill>
              <a:srgbClr val="ff0000"/>
            </a:solidFill>
            <a:miter/>
          </a:ln>
        </p:spPr>
      </p:cxnSp>
      <p:pic>
        <p:nvPicPr>
          <p:cNvPr id="185" name="Picture 36" descr="BD21298_"/>
          <p:cNvPicPr/>
          <p:nvPr/>
        </p:nvPicPr>
        <p:blipFill>
          <a:blip r:embed="rId5"/>
          <a:stretch/>
        </p:blipFill>
        <p:spPr>
          <a:xfrm rot="2242800">
            <a:off x="8956440" y="75852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6" descr="BD21298_"/>
          <p:cNvPicPr/>
          <p:nvPr/>
        </p:nvPicPr>
        <p:blipFill>
          <a:blip r:embed="rId6"/>
          <a:stretch/>
        </p:blipFill>
        <p:spPr>
          <a:xfrm rot="541800">
            <a:off x="6746400" y="8727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6" descr="BD21298_"/>
          <p:cNvPicPr/>
          <p:nvPr/>
        </p:nvPicPr>
        <p:blipFill>
          <a:blip r:embed="rId7"/>
          <a:stretch/>
        </p:blipFill>
        <p:spPr>
          <a:xfrm rot="2559600">
            <a:off x="7508520" y="6746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6" descr="BD21298_"/>
          <p:cNvPicPr/>
          <p:nvPr/>
        </p:nvPicPr>
        <p:blipFill>
          <a:blip r:embed="rId8"/>
          <a:stretch/>
        </p:blipFill>
        <p:spPr>
          <a:xfrm rot="19772400">
            <a:off x="5756040" y="6822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6" descr="BD21298_"/>
          <p:cNvPicPr/>
          <p:nvPr/>
        </p:nvPicPr>
        <p:blipFill>
          <a:blip r:embed="rId9"/>
          <a:stretch/>
        </p:blipFill>
        <p:spPr>
          <a:xfrm rot="2559600">
            <a:off x="5830560" y="52974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6" descr="BD21298_"/>
          <p:cNvPicPr/>
          <p:nvPr/>
        </p:nvPicPr>
        <p:blipFill>
          <a:blip r:embed="rId10"/>
          <a:stretch/>
        </p:blipFill>
        <p:spPr>
          <a:xfrm rot="4183200">
            <a:off x="5144400" y="4002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6" descr="BD21298_"/>
          <p:cNvPicPr/>
          <p:nvPr/>
        </p:nvPicPr>
        <p:blipFill>
          <a:blip r:embed="rId11"/>
          <a:stretch/>
        </p:blipFill>
        <p:spPr>
          <a:xfrm rot="4396200">
            <a:off x="4230000" y="148716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11"/>
          <p:cNvSpPr/>
          <p:nvPr/>
        </p:nvSpPr>
        <p:spPr>
          <a:xfrm>
            <a:off x="-76320" y="0"/>
            <a:ext cx="4038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Extrusive Igneous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Fast Cooling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Aphanitic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12"/>
          <p:cNvSpPr/>
          <p:nvPr/>
        </p:nvSpPr>
        <p:spPr>
          <a:xfrm>
            <a:off x="380880" y="7543800"/>
            <a:ext cx="44960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Intrusive Igneous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Slow Cooling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Phaneritic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352680" y="45720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LD &amp; Little to No Pressu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15"/>
          <p:cNvSpPr/>
          <p:nvPr/>
        </p:nvSpPr>
        <p:spPr>
          <a:xfrm>
            <a:off x="0" y="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d2f4"/>
                </a:solidFill>
                <a:latin typeface="Comic Sans MS"/>
              </a:rPr>
              <a:t>Extrusive Igne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d2f4"/>
                </a:solidFill>
                <a:latin typeface="Comic Sans MS"/>
              </a:rPr>
              <a:t>Fast Coo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d2f4"/>
                </a:solidFill>
                <a:latin typeface="Comic Sans MS"/>
              </a:rPr>
              <a:t>Small to no cryst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228600" y="1050840"/>
            <a:ext cx="29718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PUMI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Extrusive - Aphaniti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less dense - lighter lav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152280" y="1828800"/>
            <a:ext cx="2514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SCOR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Extrusive - Aphaniti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more dense - darker lav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76320" y="3562200"/>
            <a:ext cx="22096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OBSID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oled very fast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1" descr="BD21298_"/>
          <p:cNvPicPr/>
          <p:nvPr/>
        </p:nvPicPr>
        <p:blipFill>
          <a:blip r:embed="rId12"/>
          <a:stretch/>
        </p:blipFill>
        <p:spPr>
          <a:xfrm rot="2125200">
            <a:off x="1763280" y="2530440"/>
            <a:ext cx="451080" cy="1235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17"/>
          <p:cNvSpPr/>
          <p:nvPr/>
        </p:nvSpPr>
        <p:spPr>
          <a:xfrm>
            <a:off x="457200" y="7772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d2f4"/>
                </a:solidFill>
                <a:latin typeface="Comic Sans MS"/>
              </a:rPr>
              <a:t>Intrusive Igne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d2f4"/>
                </a:solidFill>
                <a:latin typeface="Comic Sans MS"/>
              </a:rPr>
              <a:t>Slow Coo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d2f4"/>
                </a:solidFill>
                <a:latin typeface="Comic Sans MS"/>
              </a:rPr>
              <a:t>Large to massive cryst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1066680" y="6629400"/>
            <a:ext cx="289584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GRANI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Intrusive - Phaneriti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oled slowly undergroun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9"/>
          <p:cNvSpPr/>
          <p:nvPr/>
        </p:nvSpPr>
        <p:spPr>
          <a:xfrm rot="21198000">
            <a:off x="2083680" y="26784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alloonEFExtraBold"/>
              </a:rPr>
              <a:t>LAVA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0"/>
          <p:cNvSpPr/>
          <p:nvPr/>
        </p:nvSpPr>
        <p:spPr>
          <a:xfrm rot="1838400">
            <a:off x="4266720" y="114264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Sediment weathers &amp; erodes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2"/>
          <p:cNvSpPr/>
          <p:nvPr/>
        </p:nvSpPr>
        <p:spPr>
          <a:xfrm rot="4315800">
            <a:off x="2575440" y="259992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alloonEFExtraBold"/>
              </a:rPr>
              <a:t>MAGMA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1" descr=""/>
          <p:cNvPicPr/>
          <p:nvPr/>
        </p:nvPicPr>
        <p:blipFill>
          <a:blip r:embed="rId13"/>
          <a:stretch/>
        </p:blipFill>
        <p:spPr>
          <a:xfrm>
            <a:off x="3657600" y="228600"/>
            <a:ext cx="12715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2"/>
          <p:cNvSpPr/>
          <p:nvPr/>
        </p:nvSpPr>
        <p:spPr>
          <a:xfrm>
            <a:off x="10814040" y="8748720"/>
            <a:ext cx="3143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619-EAD8-4A5D-A262-EEDCF2F2F28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29"/>
          <p:cNvSpPr/>
          <p:nvPr/>
        </p:nvSpPr>
        <p:spPr>
          <a:xfrm>
            <a:off x="0" y="3124080"/>
            <a:ext cx="6515280" cy="189000"/>
          </a:xfrm>
          <a:custGeom>
            <a:avLst/>
            <a:gdLst>
              <a:gd name="textAreaLeft" fmla="*/ 0 w 6515280"/>
              <a:gd name="textAreaRight" fmla="*/ 6515640 w 6515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2133720" y="2895480"/>
            <a:ext cx="4876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8"/>
          <p:cNvSpPr/>
          <p:nvPr/>
        </p:nvSpPr>
        <p:spPr>
          <a:xfrm>
            <a:off x="4762440" y="914400"/>
            <a:ext cx="10325160" cy="7939080"/>
          </a:xfrm>
          <a:custGeom>
            <a:avLst/>
            <a:gdLst>
              <a:gd name="textAreaLeft" fmla="*/ 0 w 10325160"/>
              <a:gd name="textAreaRight" fmla="*/ 10325520 w 10325160"/>
              <a:gd name="textAreaTop" fmla="*/ 0 h 7939080"/>
              <a:gd name="textAreaBottom" fmla="*/ 7939440 h 7939080"/>
            </a:gdLst>
            <a:ahLst/>
            <a:rect l="textAreaLeft" t="textAreaTop" r="textAreaRight" b="textAreaBottom"/>
            <a:pathLst>
              <a:path w="4336" h="4048">
                <a:moveTo>
                  <a:pt x="4336" y="2080"/>
                </a:moveTo>
                <a:cubicBezTo>
                  <a:pt x="4116" y="2064"/>
                  <a:pt x="3896" y="2048"/>
                  <a:pt x="3760" y="2032"/>
                </a:cubicBezTo>
                <a:cubicBezTo>
                  <a:pt x="3624" y="2016"/>
                  <a:pt x="3624" y="2008"/>
                  <a:pt x="3520" y="1984"/>
                </a:cubicBezTo>
                <a:cubicBezTo>
                  <a:pt x="3416" y="1960"/>
                  <a:pt x="3248" y="1920"/>
                  <a:pt x="3136" y="1888"/>
                </a:cubicBezTo>
                <a:cubicBezTo>
                  <a:pt x="3024" y="1856"/>
                  <a:pt x="2944" y="1824"/>
                  <a:pt x="2848" y="1792"/>
                </a:cubicBezTo>
                <a:cubicBezTo>
                  <a:pt x="2752" y="1760"/>
                  <a:pt x="2672" y="1744"/>
                  <a:pt x="2560" y="1696"/>
                </a:cubicBezTo>
                <a:cubicBezTo>
                  <a:pt x="2448" y="1648"/>
                  <a:pt x="2312" y="1576"/>
                  <a:pt x="2176" y="1504"/>
                </a:cubicBezTo>
                <a:cubicBezTo>
                  <a:pt x="2040" y="1432"/>
                  <a:pt x="1872" y="1352"/>
                  <a:pt x="1744" y="1264"/>
                </a:cubicBezTo>
                <a:cubicBezTo>
                  <a:pt x="1616" y="1176"/>
                  <a:pt x="1520" y="1064"/>
                  <a:pt x="1408" y="976"/>
                </a:cubicBezTo>
                <a:cubicBezTo>
                  <a:pt x="1296" y="888"/>
                  <a:pt x="1168" y="808"/>
                  <a:pt x="1072" y="736"/>
                </a:cubicBezTo>
                <a:cubicBezTo>
                  <a:pt x="976" y="664"/>
                  <a:pt x="904" y="608"/>
                  <a:pt x="832" y="544"/>
                </a:cubicBezTo>
                <a:cubicBezTo>
                  <a:pt x="760" y="480"/>
                  <a:pt x="728" y="424"/>
                  <a:pt x="640" y="352"/>
                </a:cubicBezTo>
                <a:cubicBezTo>
                  <a:pt x="552" y="280"/>
                  <a:pt x="376" y="168"/>
                  <a:pt x="304" y="112"/>
                </a:cubicBezTo>
                <a:cubicBezTo>
                  <a:pt x="232" y="56"/>
                  <a:pt x="240" y="32"/>
                  <a:pt x="208" y="16"/>
                </a:cubicBezTo>
                <a:cubicBezTo>
                  <a:pt x="176" y="0"/>
                  <a:pt x="144" y="8"/>
                  <a:pt x="112" y="16"/>
                </a:cubicBezTo>
                <a:cubicBezTo>
                  <a:pt x="80" y="24"/>
                  <a:pt x="32" y="40"/>
                  <a:pt x="16" y="64"/>
                </a:cubicBezTo>
                <a:cubicBezTo>
                  <a:pt x="0" y="88"/>
                  <a:pt x="16" y="120"/>
                  <a:pt x="16" y="160"/>
                </a:cubicBezTo>
                <a:cubicBezTo>
                  <a:pt x="16" y="200"/>
                  <a:pt x="8" y="232"/>
                  <a:pt x="16" y="304"/>
                </a:cubicBezTo>
                <a:cubicBezTo>
                  <a:pt x="24" y="376"/>
                  <a:pt x="40" y="488"/>
                  <a:pt x="64" y="592"/>
                </a:cubicBezTo>
                <a:cubicBezTo>
                  <a:pt x="88" y="696"/>
                  <a:pt x="120" y="808"/>
                  <a:pt x="160" y="928"/>
                </a:cubicBezTo>
                <a:cubicBezTo>
                  <a:pt x="200" y="1048"/>
                  <a:pt x="248" y="1176"/>
                  <a:pt x="304" y="1312"/>
                </a:cubicBezTo>
                <a:cubicBezTo>
                  <a:pt x="360" y="1448"/>
                  <a:pt x="416" y="1576"/>
                  <a:pt x="496" y="1744"/>
                </a:cubicBezTo>
                <a:cubicBezTo>
                  <a:pt x="576" y="1912"/>
                  <a:pt x="688" y="2176"/>
                  <a:pt x="784" y="2320"/>
                </a:cubicBezTo>
                <a:cubicBezTo>
                  <a:pt x="880" y="2464"/>
                  <a:pt x="968" y="2512"/>
                  <a:pt x="1072" y="2608"/>
                </a:cubicBezTo>
                <a:cubicBezTo>
                  <a:pt x="1176" y="2704"/>
                  <a:pt x="1280" y="2800"/>
                  <a:pt x="1408" y="2896"/>
                </a:cubicBezTo>
                <a:cubicBezTo>
                  <a:pt x="1536" y="2992"/>
                  <a:pt x="1696" y="3088"/>
                  <a:pt x="1840" y="3184"/>
                </a:cubicBezTo>
                <a:cubicBezTo>
                  <a:pt x="1984" y="3280"/>
                  <a:pt x="2096" y="3376"/>
                  <a:pt x="2272" y="3472"/>
                </a:cubicBezTo>
                <a:cubicBezTo>
                  <a:pt x="2448" y="3568"/>
                  <a:pt x="2688" y="3688"/>
                  <a:pt x="2896" y="3760"/>
                </a:cubicBezTo>
                <a:cubicBezTo>
                  <a:pt x="3104" y="3832"/>
                  <a:pt x="3328" y="3864"/>
                  <a:pt x="3520" y="3904"/>
                </a:cubicBezTo>
                <a:cubicBezTo>
                  <a:pt x="3712" y="3944"/>
                  <a:pt x="3912" y="3976"/>
                  <a:pt x="4048" y="4000"/>
                </a:cubicBezTo>
                <a:cubicBezTo>
                  <a:pt x="4184" y="4024"/>
                  <a:pt x="4260" y="4036"/>
                  <a:pt x="4336" y="404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1"/>
          <p:cNvSpPr/>
          <p:nvPr/>
        </p:nvSpPr>
        <p:spPr>
          <a:xfrm>
            <a:off x="-114480" y="1158840"/>
            <a:ext cx="6115320" cy="5851440"/>
          </a:xfrm>
          <a:custGeom>
            <a:avLst/>
            <a:gdLst>
              <a:gd name="textAreaLeft" fmla="*/ 0 w 6115320"/>
              <a:gd name="textAreaRight" fmla="*/ 6115680 w 6115320"/>
              <a:gd name="textAreaTop" fmla="*/ 0 h 5851440"/>
              <a:gd name="textAreaBottom" fmla="*/ 5851800 h 5851440"/>
            </a:gdLst>
            <a:ahLst/>
            <a:rect l="textAreaLeft" t="textAreaTop" r="textAreaRight" b="textAreaBottom"/>
            <a:pathLst>
              <a:path w="2568" h="2984">
                <a:moveTo>
                  <a:pt x="48" y="2984"/>
                </a:moveTo>
                <a:cubicBezTo>
                  <a:pt x="92" y="2968"/>
                  <a:pt x="136" y="2952"/>
                  <a:pt x="192" y="2936"/>
                </a:cubicBezTo>
                <a:cubicBezTo>
                  <a:pt x="248" y="2920"/>
                  <a:pt x="312" y="2912"/>
                  <a:pt x="384" y="2888"/>
                </a:cubicBezTo>
                <a:cubicBezTo>
                  <a:pt x="456" y="2864"/>
                  <a:pt x="552" y="2824"/>
                  <a:pt x="624" y="2792"/>
                </a:cubicBezTo>
                <a:cubicBezTo>
                  <a:pt x="696" y="2760"/>
                  <a:pt x="760" y="2720"/>
                  <a:pt x="816" y="2696"/>
                </a:cubicBezTo>
                <a:cubicBezTo>
                  <a:pt x="872" y="2672"/>
                  <a:pt x="912" y="2656"/>
                  <a:pt x="960" y="2648"/>
                </a:cubicBezTo>
                <a:cubicBezTo>
                  <a:pt x="1008" y="2640"/>
                  <a:pt x="1048" y="2648"/>
                  <a:pt x="1104" y="2648"/>
                </a:cubicBezTo>
                <a:cubicBezTo>
                  <a:pt x="1160" y="2648"/>
                  <a:pt x="1248" y="2640"/>
                  <a:pt x="1296" y="2648"/>
                </a:cubicBezTo>
                <a:cubicBezTo>
                  <a:pt x="1344" y="2656"/>
                  <a:pt x="1344" y="2680"/>
                  <a:pt x="1392" y="2696"/>
                </a:cubicBezTo>
                <a:cubicBezTo>
                  <a:pt x="1440" y="2712"/>
                  <a:pt x="1528" y="2736"/>
                  <a:pt x="1584" y="2744"/>
                </a:cubicBezTo>
                <a:cubicBezTo>
                  <a:pt x="1640" y="2752"/>
                  <a:pt x="1648" y="2744"/>
                  <a:pt x="1728" y="2744"/>
                </a:cubicBezTo>
                <a:cubicBezTo>
                  <a:pt x="1808" y="2744"/>
                  <a:pt x="1968" y="2744"/>
                  <a:pt x="2064" y="2744"/>
                </a:cubicBezTo>
                <a:cubicBezTo>
                  <a:pt x="2160" y="2744"/>
                  <a:pt x="2240" y="2744"/>
                  <a:pt x="2304" y="2744"/>
                </a:cubicBezTo>
                <a:cubicBezTo>
                  <a:pt x="2368" y="2744"/>
                  <a:pt x="2408" y="2760"/>
                  <a:pt x="2448" y="2744"/>
                </a:cubicBezTo>
                <a:cubicBezTo>
                  <a:pt x="2488" y="2728"/>
                  <a:pt x="2528" y="2688"/>
                  <a:pt x="2544" y="2648"/>
                </a:cubicBezTo>
                <a:cubicBezTo>
                  <a:pt x="2560" y="2608"/>
                  <a:pt x="2568" y="2568"/>
                  <a:pt x="2544" y="2504"/>
                </a:cubicBezTo>
                <a:cubicBezTo>
                  <a:pt x="2520" y="2440"/>
                  <a:pt x="2464" y="2392"/>
                  <a:pt x="2400" y="2264"/>
                </a:cubicBezTo>
                <a:cubicBezTo>
                  <a:pt x="2336" y="2136"/>
                  <a:pt x="2232" y="1912"/>
                  <a:pt x="2160" y="1736"/>
                </a:cubicBezTo>
                <a:cubicBezTo>
                  <a:pt x="2088" y="1560"/>
                  <a:pt x="2016" y="1376"/>
                  <a:pt x="1968" y="1208"/>
                </a:cubicBezTo>
                <a:cubicBezTo>
                  <a:pt x="1920" y="1040"/>
                  <a:pt x="1904" y="888"/>
                  <a:pt x="1872" y="728"/>
                </a:cubicBezTo>
                <a:cubicBezTo>
                  <a:pt x="1840" y="568"/>
                  <a:pt x="1800" y="360"/>
                  <a:pt x="1776" y="248"/>
                </a:cubicBezTo>
                <a:cubicBezTo>
                  <a:pt x="1752" y="136"/>
                  <a:pt x="1760" y="96"/>
                  <a:pt x="1728" y="56"/>
                </a:cubicBezTo>
                <a:cubicBezTo>
                  <a:pt x="1696" y="16"/>
                  <a:pt x="1624" y="0"/>
                  <a:pt x="1584" y="8"/>
                </a:cubicBezTo>
                <a:cubicBezTo>
                  <a:pt x="1544" y="16"/>
                  <a:pt x="1520" y="56"/>
                  <a:pt x="1488" y="104"/>
                </a:cubicBezTo>
                <a:cubicBezTo>
                  <a:pt x="1456" y="152"/>
                  <a:pt x="1440" y="200"/>
                  <a:pt x="1392" y="296"/>
                </a:cubicBezTo>
                <a:cubicBezTo>
                  <a:pt x="1344" y="392"/>
                  <a:pt x="1288" y="520"/>
                  <a:pt x="1200" y="680"/>
                </a:cubicBezTo>
                <a:cubicBezTo>
                  <a:pt x="1112" y="840"/>
                  <a:pt x="976" y="1080"/>
                  <a:pt x="864" y="1256"/>
                </a:cubicBezTo>
                <a:cubicBezTo>
                  <a:pt x="752" y="1432"/>
                  <a:pt x="608" y="1632"/>
                  <a:pt x="528" y="1736"/>
                </a:cubicBezTo>
                <a:cubicBezTo>
                  <a:pt x="448" y="1840"/>
                  <a:pt x="424" y="1848"/>
                  <a:pt x="384" y="1880"/>
                </a:cubicBezTo>
                <a:cubicBezTo>
                  <a:pt x="344" y="1912"/>
                  <a:pt x="320" y="1920"/>
                  <a:pt x="288" y="1928"/>
                </a:cubicBezTo>
                <a:cubicBezTo>
                  <a:pt x="256" y="1936"/>
                  <a:pt x="232" y="1928"/>
                  <a:pt x="192" y="1928"/>
                </a:cubicBezTo>
                <a:cubicBezTo>
                  <a:pt x="152" y="1928"/>
                  <a:pt x="80" y="1928"/>
                  <a:pt x="48" y="1928"/>
                </a:cubicBezTo>
                <a:cubicBezTo>
                  <a:pt x="16" y="1928"/>
                  <a:pt x="8" y="1928"/>
                  <a:pt x="0" y="192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2"/>
          <p:cNvSpPr/>
          <p:nvPr/>
        </p:nvSpPr>
        <p:spPr>
          <a:xfrm>
            <a:off x="13258800" y="4299120"/>
            <a:ext cx="1828800" cy="501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768" h="256">
                <a:moveTo>
                  <a:pt x="768" y="64"/>
                </a:moveTo>
                <a:cubicBezTo>
                  <a:pt x="712" y="44"/>
                  <a:pt x="656" y="24"/>
                  <a:pt x="624" y="16"/>
                </a:cubicBezTo>
                <a:cubicBezTo>
                  <a:pt x="592" y="8"/>
                  <a:pt x="608" y="16"/>
                  <a:pt x="576" y="16"/>
                </a:cubicBezTo>
                <a:cubicBezTo>
                  <a:pt x="544" y="16"/>
                  <a:pt x="464" y="16"/>
                  <a:pt x="432" y="16"/>
                </a:cubicBezTo>
                <a:cubicBezTo>
                  <a:pt x="400" y="16"/>
                  <a:pt x="416" y="0"/>
                  <a:pt x="384" y="16"/>
                </a:cubicBezTo>
                <a:cubicBezTo>
                  <a:pt x="352" y="32"/>
                  <a:pt x="280" y="88"/>
                  <a:pt x="240" y="112"/>
                </a:cubicBezTo>
                <a:cubicBezTo>
                  <a:pt x="200" y="136"/>
                  <a:pt x="168" y="144"/>
                  <a:pt x="144" y="160"/>
                </a:cubicBezTo>
                <a:cubicBezTo>
                  <a:pt x="120" y="176"/>
                  <a:pt x="120" y="192"/>
                  <a:pt x="96" y="208"/>
                </a:cubicBezTo>
                <a:cubicBezTo>
                  <a:pt x="72" y="224"/>
                  <a:pt x="16" y="248"/>
                  <a:pt x="0" y="256"/>
                </a:cubicBezTo>
              </a:path>
            </a:pathLst>
          </a:custGeom>
          <a:noFill/>
          <a:ln w="1908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13"/>
          <p:cNvSpPr/>
          <p:nvPr/>
        </p:nvSpPr>
        <p:spPr>
          <a:xfrm>
            <a:off x="8572680" y="3164040"/>
            <a:ext cx="6514920" cy="188640"/>
          </a:xfrm>
          <a:custGeom>
            <a:avLst/>
            <a:gdLst>
              <a:gd name="textAreaLeft" fmla="*/ 0 w 6514920"/>
              <a:gd name="textAreaRight" fmla="*/ 6515280 w 651492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447920" y="7051680"/>
            <a:ext cx="28954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GRANI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666880" y="1676520"/>
            <a:ext cx="19051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PUMI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1981080" y="3124080"/>
            <a:ext cx="2286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SCOR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-76320" y="3562200"/>
            <a:ext cx="22100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OBSID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13563720" y="4419720"/>
            <a:ext cx="1828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REE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33" descr="BD21298_"/>
          <p:cNvPicPr/>
          <p:nvPr/>
        </p:nvPicPr>
        <p:blipFill>
          <a:blip r:embed="rId1"/>
          <a:stretch/>
        </p:blipFill>
        <p:spPr>
          <a:xfrm rot="2157000">
            <a:off x="7314840" y="6705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BD21298_"/>
          <p:cNvPicPr/>
          <p:nvPr/>
        </p:nvPicPr>
        <p:blipFill>
          <a:blip r:embed="rId2"/>
          <a:stretch/>
        </p:blipFill>
        <p:spPr>
          <a:xfrm rot="1860000">
            <a:off x="9219960" y="7620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BD21298_"/>
          <p:cNvPicPr/>
          <p:nvPr/>
        </p:nvPicPr>
        <p:blipFill>
          <a:blip r:embed="rId3"/>
          <a:stretch/>
        </p:blipFill>
        <p:spPr>
          <a:xfrm rot="1134000">
            <a:off x="12039480" y="8610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7" descr="BD21298_"/>
          <p:cNvPicPr/>
          <p:nvPr/>
        </p:nvPicPr>
        <p:blipFill>
          <a:blip r:embed="rId4"/>
          <a:stretch/>
        </p:blipFill>
        <p:spPr>
          <a:xfrm rot="19564800">
            <a:off x="5714640" y="51051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8" descr="BD21298_"/>
          <p:cNvPicPr/>
          <p:nvPr/>
        </p:nvPicPr>
        <p:blipFill>
          <a:blip r:embed="rId5"/>
          <a:stretch/>
        </p:blipFill>
        <p:spPr>
          <a:xfrm rot="19743600">
            <a:off x="4981680" y="391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0" descr="BD21298_"/>
          <p:cNvPicPr/>
          <p:nvPr/>
        </p:nvPicPr>
        <p:blipFill>
          <a:blip r:embed="rId6"/>
          <a:stretch/>
        </p:blipFill>
        <p:spPr>
          <a:xfrm rot="20849400">
            <a:off x="4191120" y="13712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" descr="BD21298_"/>
          <p:cNvPicPr/>
          <p:nvPr/>
        </p:nvPicPr>
        <p:blipFill>
          <a:blip r:embed="rId7"/>
          <a:stretch/>
        </p:blipFill>
        <p:spPr>
          <a:xfrm rot="2125200">
            <a:off x="2666880" y="1219320"/>
            <a:ext cx="322560" cy="838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3"/>
          <p:cNvSpPr/>
          <p:nvPr/>
        </p:nvSpPr>
        <p:spPr>
          <a:xfrm>
            <a:off x="6956640" y="17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4"/>
          <p:cNvSpPr/>
          <p:nvPr/>
        </p:nvSpPr>
        <p:spPr>
          <a:xfrm>
            <a:off x="7277400" y="1919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5"/>
          <p:cNvSpPr/>
          <p:nvPr/>
        </p:nvSpPr>
        <p:spPr>
          <a:xfrm>
            <a:off x="7957800" y="2300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6"/>
          <p:cNvSpPr/>
          <p:nvPr/>
        </p:nvSpPr>
        <p:spPr>
          <a:xfrm>
            <a:off x="760644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7"/>
          <p:cNvSpPr/>
          <p:nvPr/>
        </p:nvSpPr>
        <p:spPr>
          <a:xfrm>
            <a:off x="8160480" y="2468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8541000" y="2757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9201600" y="3154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8857080" y="29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9542880" y="327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9847800" y="34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10172880" y="3595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10990800" y="3887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6"/>
          <p:cNvSpPr/>
          <p:nvPr/>
        </p:nvSpPr>
        <p:spPr>
          <a:xfrm>
            <a:off x="11352600" y="3976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7"/>
          <p:cNvSpPr/>
          <p:nvPr/>
        </p:nvSpPr>
        <p:spPr>
          <a:xfrm>
            <a:off x="11724120" y="4102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12057480" y="4146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9"/>
          <p:cNvSpPr/>
          <p:nvPr/>
        </p:nvSpPr>
        <p:spPr>
          <a:xfrm>
            <a:off x="12382560" y="4249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0"/>
          <p:cNvSpPr/>
          <p:nvPr/>
        </p:nvSpPr>
        <p:spPr>
          <a:xfrm>
            <a:off x="6066360" y="4081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1"/>
          <p:cNvSpPr/>
          <p:nvPr/>
        </p:nvSpPr>
        <p:spPr>
          <a:xfrm>
            <a:off x="6286680" y="45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2"/>
          <p:cNvSpPr/>
          <p:nvPr/>
        </p:nvSpPr>
        <p:spPr>
          <a:xfrm>
            <a:off x="6510960" y="4921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3"/>
          <p:cNvSpPr/>
          <p:nvPr/>
        </p:nvSpPr>
        <p:spPr>
          <a:xfrm>
            <a:off x="6831720" y="5224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4"/>
          <p:cNvSpPr/>
          <p:nvPr/>
        </p:nvSpPr>
        <p:spPr>
          <a:xfrm>
            <a:off x="7188840" y="54687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5"/>
          <p:cNvSpPr/>
          <p:nvPr/>
        </p:nvSpPr>
        <p:spPr>
          <a:xfrm>
            <a:off x="7587000" y="5729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6"/>
          <p:cNvSpPr/>
          <p:nvPr/>
        </p:nvSpPr>
        <p:spPr>
          <a:xfrm>
            <a:off x="7942680" y="5958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7"/>
          <p:cNvSpPr/>
          <p:nvPr/>
        </p:nvSpPr>
        <p:spPr>
          <a:xfrm>
            <a:off x="8278920" y="617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8"/>
          <p:cNvSpPr/>
          <p:nvPr/>
        </p:nvSpPr>
        <p:spPr>
          <a:xfrm>
            <a:off x="8612640" y="635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9"/>
          <p:cNvSpPr/>
          <p:nvPr/>
        </p:nvSpPr>
        <p:spPr>
          <a:xfrm>
            <a:off x="8993160" y="6554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0"/>
          <p:cNvSpPr/>
          <p:nvPr/>
        </p:nvSpPr>
        <p:spPr>
          <a:xfrm>
            <a:off x="9165240" y="6719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1"/>
          <p:cNvSpPr/>
          <p:nvPr/>
        </p:nvSpPr>
        <p:spPr>
          <a:xfrm>
            <a:off x="10076400" y="716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2"/>
          <p:cNvSpPr/>
          <p:nvPr/>
        </p:nvSpPr>
        <p:spPr>
          <a:xfrm>
            <a:off x="10438200" y="7361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3"/>
          <p:cNvSpPr/>
          <p:nvPr/>
        </p:nvSpPr>
        <p:spPr>
          <a:xfrm>
            <a:off x="10809720" y="7486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4"/>
          <p:cNvSpPr/>
          <p:nvPr/>
        </p:nvSpPr>
        <p:spPr>
          <a:xfrm>
            <a:off x="11143080" y="760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5"/>
          <p:cNvSpPr/>
          <p:nvPr/>
        </p:nvSpPr>
        <p:spPr>
          <a:xfrm>
            <a:off x="11468160" y="7729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6"/>
          <p:cNvSpPr/>
          <p:nvPr/>
        </p:nvSpPr>
        <p:spPr>
          <a:xfrm>
            <a:off x="687240" y="5346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7"/>
          <p:cNvSpPr/>
          <p:nvPr/>
        </p:nvSpPr>
        <p:spPr>
          <a:xfrm>
            <a:off x="839880" y="5256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8"/>
          <p:cNvSpPr/>
          <p:nvPr/>
        </p:nvSpPr>
        <p:spPr>
          <a:xfrm>
            <a:off x="1176840" y="51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9"/>
          <p:cNvSpPr/>
          <p:nvPr/>
        </p:nvSpPr>
        <p:spPr>
          <a:xfrm>
            <a:off x="1500480" y="515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0"/>
          <p:cNvSpPr/>
          <p:nvPr/>
        </p:nvSpPr>
        <p:spPr>
          <a:xfrm>
            <a:off x="1792440" y="5119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1"/>
          <p:cNvSpPr/>
          <p:nvPr/>
        </p:nvSpPr>
        <p:spPr>
          <a:xfrm>
            <a:off x="21229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2"/>
          <p:cNvSpPr/>
          <p:nvPr/>
        </p:nvSpPr>
        <p:spPr>
          <a:xfrm>
            <a:off x="2440080" y="512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3"/>
          <p:cNvSpPr/>
          <p:nvPr/>
        </p:nvSpPr>
        <p:spPr>
          <a:xfrm>
            <a:off x="30661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84"/>
          <p:cNvSpPr/>
          <p:nvPr/>
        </p:nvSpPr>
        <p:spPr>
          <a:xfrm>
            <a:off x="3354480" y="514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5"/>
          <p:cNvSpPr/>
          <p:nvPr/>
        </p:nvSpPr>
        <p:spPr>
          <a:xfrm>
            <a:off x="3675600" y="5165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6"/>
          <p:cNvSpPr/>
          <p:nvPr/>
        </p:nvSpPr>
        <p:spPr>
          <a:xfrm>
            <a:off x="3980520" y="51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4268880" y="519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8"/>
          <p:cNvSpPr/>
          <p:nvPr/>
        </p:nvSpPr>
        <p:spPr>
          <a:xfrm>
            <a:off x="0" y="929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Jane  B Schuelke   More! Rocks in Your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6781680" y="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OCK IS BOR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Sediment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Made of Sedimen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92" descr="BD21298_"/>
          <p:cNvPicPr/>
          <p:nvPr/>
        </p:nvPicPr>
        <p:blipFill>
          <a:blip r:embed="rId8"/>
          <a:stretch/>
        </p:blipFill>
        <p:spPr>
          <a:xfrm rot="19708200">
            <a:off x="5923080" y="668448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97"/>
          <p:cNvSpPr/>
          <p:nvPr/>
        </p:nvSpPr>
        <p:spPr>
          <a:xfrm>
            <a:off x="0" y="6248520"/>
            <a:ext cx="5638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96"/>
          <p:cNvSpPr/>
          <p:nvPr/>
        </p:nvSpPr>
        <p:spPr>
          <a:xfrm>
            <a:off x="-31680" y="6116760"/>
            <a:ext cx="5697360" cy="536400"/>
          </a:xfrm>
          <a:custGeom>
            <a:avLst/>
            <a:gdLst>
              <a:gd name="textAreaLeft" fmla="*/ 0 w 5697360"/>
              <a:gd name="textAreaRight" fmla="*/ 5697720 w 569736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589" h="338">
                <a:moveTo>
                  <a:pt x="3589" y="272"/>
                </a:moveTo>
                <a:cubicBezTo>
                  <a:pt x="3052" y="266"/>
                  <a:pt x="2733" y="338"/>
                  <a:pt x="2304" y="200"/>
                </a:cubicBezTo>
                <a:cubicBezTo>
                  <a:pt x="2249" y="163"/>
                  <a:pt x="2191" y="145"/>
                  <a:pt x="2129" y="128"/>
                </a:cubicBezTo>
                <a:cubicBezTo>
                  <a:pt x="2036" y="102"/>
                  <a:pt x="1947" y="69"/>
                  <a:pt x="1851" y="56"/>
                </a:cubicBezTo>
                <a:cubicBezTo>
                  <a:pt x="1693" y="0"/>
                  <a:pt x="1175" y="44"/>
                  <a:pt x="1131" y="45"/>
                </a:cubicBezTo>
                <a:cubicBezTo>
                  <a:pt x="993" y="75"/>
                  <a:pt x="861" y="105"/>
                  <a:pt x="720" y="117"/>
                </a:cubicBezTo>
                <a:cubicBezTo>
                  <a:pt x="644" y="130"/>
                  <a:pt x="577" y="161"/>
                  <a:pt x="504" y="179"/>
                </a:cubicBezTo>
                <a:cubicBezTo>
                  <a:pt x="416" y="200"/>
                  <a:pt x="339" y="213"/>
                  <a:pt x="247" y="220"/>
                </a:cubicBezTo>
                <a:cubicBezTo>
                  <a:pt x="226" y="227"/>
                  <a:pt x="203" y="229"/>
                  <a:pt x="185" y="241"/>
                </a:cubicBezTo>
                <a:cubicBezTo>
                  <a:pt x="175" y="248"/>
                  <a:pt x="165" y="256"/>
                  <a:pt x="154" y="261"/>
                </a:cubicBezTo>
                <a:cubicBezTo>
                  <a:pt x="134" y="270"/>
                  <a:pt x="110" y="270"/>
                  <a:pt x="92" y="282"/>
                </a:cubicBezTo>
                <a:cubicBezTo>
                  <a:pt x="82" y="289"/>
                  <a:pt x="72" y="297"/>
                  <a:pt x="61" y="302"/>
                </a:cubicBezTo>
                <a:cubicBezTo>
                  <a:pt x="48" y="308"/>
                  <a:pt x="33" y="308"/>
                  <a:pt x="20" y="313"/>
                </a:cubicBezTo>
                <a:cubicBezTo>
                  <a:pt x="13" y="315"/>
                  <a:pt x="7" y="320"/>
                  <a:pt x="0" y="323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98" descr="j0233594"/>
          <p:cNvPicPr/>
          <p:nvPr/>
        </p:nvPicPr>
        <p:blipFill>
          <a:blip r:embed="rId9"/>
          <a:stretch/>
        </p:blipFill>
        <p:spPr>
          <a:xfrm>
            <a:off x="14630400" y="407520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275" name="Line 101"/>
          <p:cNvSpPr/>
          <p:nvPr/>
        </p:nvSpPr>
        <p:spPr>
          <a:xfrm>
            <a:off x="6781680" y="1828800"/>
            <a:ext cx="1526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2"/>
          <p:cNvSpPr/>
          <p:nvPr/>
        </p:nvSpPr>
        <p:spPr>
          <a:xfrm rot="530400">
            <a:off x="11124720" y="816768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eat and pressure change rock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3"/>
          <p:cNvSpPr/>
          <p:nvPr/>
        </p:nvSpPr>
        <p:spPr>
          <a:xfrm>
            <a:off x="1219320" y="5576760"/>
            <a:ext cx="33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6600ff"/>
                </a:solidFill>
                <a:latin typeface="Arial"/>
              </a:rPr>
              <a:t>Solidified magma or lava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98" descr="j0233594"/>
          <p:cNvPicPr/>
          <p:nvPr/>
        </p:nvPicPr>
        <p:blipFill>
          <a:blip r:embed="rId10"/>
          <a:stretch/>
        </p:blipFill>
        <p:spPr>
          <a:xfrm>
            <a:off x="228600" y="3352680"/>
            <a:ext cx="228600" cy="115920"/>
          </a:xfrm>
          <a:prstGeom prst="rect">
            <a:avLst/>
          </a:prstGeom>
          <a:ln w="0">
            <a:noFill/>
          </a:ln>
        </p:spPr>
      </p:pic>
      <p:cxnSp>
        <p:nvCxnSpPr>
          <p:cNvPr id="279" name="Straight Connector 95"/>
          <p:cNvCxnSpPr/>
          <p:nvPr/>
        </p:nvCxnSpPr>
        <p:spPr>
          <a:xfrm flipV="1">
            <a:off x="3962520" y="1066320"/>
            <a:ext cx="838800" cy="153360"/>
          </a:xfrm>
          <a:prstGeom prst="curvedConnector5">
            <a:avLst>
              <a:gd name="adj1" fmla="val 40875"/>
              <a:gd name="adj2" fmla="val 49882"/>
              <a:gd name="adj3" fmla="val 40875"/>
            </a:avLst>
          </a:prstGeom>
          <a:ln w="54000">
            <a:solidFill>
              <a:srgbClr val="ff0000"/>
            </a:solidFill>
            <a:miter/>
          </a:ln>
        </p:spPr>
      </p:cxnSp>
      <p:pic>
        <p:nvPicPr>
          <p:cNvPr id="280" name="Picture 2" descr=""/>
          <p:cNvPicPr/>
          <p:nvPr/>
        </p:nvPicPr>
        <p:blipFill>
          <a:blip r:embed="rId11"/>
          <a:stretch/>
        </p:blipFill>
        <p:spPr>
          <a:xfrm>
            <a:off x="2971800" y="0"/>
            <a:ext cx="1981080" cy="90972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12"/>
          <p:cNvSpPr/>
          <p:nvPr/>
        </p:nvSpPr>
        <p:spPr>
          <a:xfrm flipH="1">
            <a:off x="5334120" y="6324480"/>
            <a:ext cx="2209680" cy="327672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10000" h="10615">
                <a:moveTo>
                  <a:pt x="8052" y="808"/>
                </a:moveTo>
                <a:cubicBezTo>
                  <a:pt x="7335" y="0"/>
                  <a:pt x="7754" y="717"/>
                  <a:pt x="8052" y="1353"/>
                </a:cubicBezTo>
                <a:cubicBezTo>
                  <a:pt x="8350" y="1989"/>
                  <a:pt x="9683" y="3822"/>
                  <a:pt x="9841" y="4622"/>
                </a:cubicBezTo>
                <a:cubicBezTo>
                  <a:pt x="10000" y="5422"/>
                  <a:pt x="9393" y="5348"/>
                  <a:pt x="8946" y="5711"/>
                </a:cubicBezTo>
                <a:cubicBezTo>
                  <a:pt x="8499" y="6074"/>
                  <a:pt x="7903" y="6347"/>
                  <a:pt x="7157" y="6801"/>
                </a:cubicBezTo>
                <a:lnTo>
                  <a:pt x="4473" y="8436"/>
                </a:lnTo>
                <a:cubicBezTo>
                  <a:pt x="3728" y="8890"/>
                  <a:pt x="3280" y="9253"/>
                  <a:pt x="2684" y="9525"/>
                </a:cubicBezTo>
                <a:cubicBezTo>
                  <a:pt x="2088" y="9797"/>
                  <a:pt x="1342" y="9888"/>
                  <a:pt x="895" y="10070"/>
                </a:cubicBezTo>
                <a:cubicBezTo>
                  <a:pt x="448" y="10252"/>
                  <a:pt x="205" y="10292"/>
                  <a:pt x="0" y="1061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4952880" y="1981080"/>
            <a:ext cx="20574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NGLOMER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pebble size grai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6781680" y="3317760"/>
            <a:ext cx="25146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ANDSTO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and size grai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9448920" y="4343400"/>
            <a:ext cx="3149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HA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fine grained silt and clay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7"/>
          <p:cNvSpPr/>
          <p:nvPr/>
        </p:nvSpPr>
        <p:spPr>
          <a:xfrm>
            <a:off x="12877920" y="5029200"/>
            <a:ext cx="205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MESTO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organic reef particl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2"/>
          <p:cNvSpPr/>
          <p:nvPr/>
        </p:nvSpPr>
        <p:spPr>
          <a:xfrm rot="1848000">
            <a:off x="5464440" y="917640"/>
            <a:ext cx="182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High 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2"/>
          <p:cNvSpPr/>
          <p:nvPr/>
        </p:nvSpPr>
        <p:spPr>
          <a:xfrm rot="1848000">
            <a:off x="8268120" y="2541600"/>
            <a:ext cx="2160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Medium 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2"/>
          <p:cNvSpPr/>
          <p:nvPr/>
        </p:nvSpPr>
        <p:spPr>
          <a:xfrm rot="856800">
            <a:off x="10817280" y="3870000"/>
            <a:ext cx="2949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Low &amp; Extremely Low  Energ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01"/>
          <p:cNvSpPr/>
          <p:nvPr/>
        </p:nvSpPr>
        <p:spPr>
          <a:xfrm>
            <a:off x="8763120" y="2743200"/>
            <a:ext cx="269640" cy="55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01"/>
          <p:cNvSpPr/>
          <p:nvPr/>
        </p:nvSpPr>
        <p:spPr>
          <a:xfrm>
            <a:off x="10667880" y="3962520"/>
            <a:ext cx="270000" cy="55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0"/>
          <p:cNvSpPr/>
          <p:nvPr/>
        </p:nvSpPr>
        <p:spPr>
          <a:xfrm rot="1838400">
            <a:off x="4315680" y="1220760"/>
            <a:ext cx="33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Sediment weathers &amp; erodes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 flipH="1">
            <a:off x="5715000" y="6400800"/>
            <a:ext cx="380880" cy="1600200"/>
          </a:xfrm>
          <a:custGeom>
            <a:avLst/>
            <a:gdLst>
              <a:gd name="textAreaLeft" fmla="*/ 360 w 380880"/>
              <a:gd name="textAreaRight" fmla="*/ 381600 w 3808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0000" h="10615">
                <a:moveTo>
                  <a:pt x="8052" y="808"/>
                </a:moveTo>
                <a:cubicBezTo>
                  <a:pt x="7335" y="0"/>
                  <a:pt x="7754" y="717"/>
                  <a:pt x="8052" y="1353"/>
                </a:cubicBezTo>
                <a:cubicBezTo>
                  <a:pt x="8350" y="1989"/>
                  <a:pt x="9683" y="3822"/>
                  <a:pt x="9841" y="4622"/>
                </a:cubicBezTo>
                <a:cubicBezTo>
                  <a:pt x="10000" y="5422"/>
                  <a:pt x="9393" y="5348"/>
                  <a:pt x="8946" y="5711"/>
                </a:cubicBezTo>
                <a:cubicBezTo>
                  <a:pt x="8499" y="6074"/>
                  <a:pt x="7903" y="6347"/>
                  <a:pt x="7157" y="6801"/>
                </a:cubicBezTo>
                <a:lnTo>
                  <a:pt x="4473" y="8436"/>
                </a:lnTo>
                <a:cubicBezTo>
                  <a:pt x="3728" y="8890"/>
                  <a:pt x="3280" y="9253"/>
                  <a:pt x="2684" y="9525"/>
                </a:cubicBezTo>
                <a:cubicBezTo>
                  <a:pt x="2088" y="9797"/>
                  <a:pt x="1342" y="9888"/>
                  <a:pt x="895" y="10070"/>
                </a:cubicBezTo>
                <a:cubicBezTo>
                  <a:pt x="448" y="10252"/>
                  <a:pt x="205" y="10292"/>
                  <a:pt x="0" y="1061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2"/>
          <p:cNvSpPr/>
          <p:nvPr/>
        </p:nvSpPr>
        <p:spPr>
          <a:xfrm>
            <a:off x="10814040" y="8748720"/>
            <a:ext cx="3143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C3DA-EB31-4EC4-8573-79AB708C5DB5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0" y="3124080"/>
            <a:ext cx="6515280" cy="189000"/>
          </a:xfrm>
          <a:custGeom>
            <a:avLst/>
            <a:gdLst>
              <a:gd name="textAreaLeft" fmla="*/ 0 w 6515280"/>
              <a:gd name="textAreaRight" fmla="*/ 6515640 w 6515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2133720" y="2895480"/>
            <a:ext cx="4876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4762440" y="914400"/>
            <a:ext cx="10325160" cy="7939080"/>
          </a:xfrm>
          <a:custGeom>
            <a:avLst/>
            <a:gdLst>
              <a:gd name="textAreaLeft" fmla="*/ 0 w 10325160"/>
              <a:gd name="textAreaRight" fmla="*/ 10325520 w 10325160"/>
              <a:gd name="textAreaTop" fmla="*/ 0 h 7939080"/>
              <a:gd name="textAreaBottom" fmla="*/ 7939440 h 7939080"/>
            </a:gdLst>
            <a:ahLst/>
            <a:rect l="textAreaLeft" t="textAreaTop" r="textAreaRight" b="textAreaBottom"/>
            <a:pathLst>
              <a:path w="4336" h="4048">
                <a:moveTo>
                  <a:pt x="4336" y="2080"/>
                </a:moveTo>
                <a:cubicBezTo>
                  <a:pt x="4116" y="2064"/>
                  <a:pt x="3896" y="2048"/>
                  <a:pt x="3760" y="2032"/>
                </a:cubicBezTo>
                <a:cubicBezTo>
                  <a:pt x="3624" y="2016"/>
                  <a:pt x="3624" y="2008"/>
                  <a:pt x="3520" y="1984"/>
                </a:cubicBezTo>
                <a:cubicBezTo>
                  <a:pt x="3416" y="1960"/>
                  <a:pt x="3248" y="1920"/>
                  <a:pt x="3136" y="1888"/>
                </a:cubicBezTo>
                <a:cubicBezTo>
                  <a:pt x="3024" y="1856"/>
                  <a:pt x="2944" y="1824"/>
                  <a:pt x="2848" y="1792"/>
                </a:cubicBezTo>
                <a:cubicBezTo>
                  <a:pt x="2752" y="1760"/>
                  <a:pt x="2672" y="1744"/>
                  <a:pt x="2560" y="1696"/>
                </a:cubicBezTo>
                <a:cubicBezTo>
                  <a:pt x="2448" y="1648"/>
                  <a:pt x="2312" y="1576"/>
                  <a:pt x="2176" y="1504"/>
                </a:cubicBezTo>
                <a:cubicBezTo>
                  <a:pt x="2040" y="1432"/>
                  <a:pt x="1872" y="1352"/>
                  <a:pt x="1744" y="1264"/>
                </a:cubicBezTo>
                <a:cubicBezTo>
                  <a:pt x="1616" y="1176"/>
                  <a:pt x="1520" y="1064"/>
                  <a:pt x="1408" y="976"/>
                </a:cubicBezTo>
                <a:cubicBezTo>
                  <a:pt x="1296" y="888"/>
                  <a:pt x="1168" y="808"/>
                  <a:pt x="1072" y="736"/>
                </a:cubicBezTo>
                <a:cubicBezTo>
                  <a:pt x="976" y="664"/>
                  <a:pt x="904" y="608"/>
                  <a:pt x="832" y="544"/>
                </a:cubicBezTo>
                <a:cubicBezTo>
                  <a:pt x="760" y="480"/>
                  <a:pt x="728" y="424"/>
                  <a:pt x="640" y="352"/>
                </a:cubicBezTo>
                <a:cubicBezTo>
                  <a:pt x="552" y="280"/>
                  <a:pt x="376" y="168"/>
                  <a:pt x="304" y="112"/>
                </a:cubicBezTo>
                <a:cubicBezTo>
                  <a:pt x="232" y="56"/>
                  <a:pt x="240" y="32"/>
                  <a:pt x="208" y="16"/>
                </a:cubicBezTo>
                <a:cubicBezTo>
                  <a:pt x="176" y="0"/>
                  <a:pt x="144" y="8"/>
                  <a:pt x="112" y="16"/>
                </a:cubicBezTo>
                <a:cubicBezTo>
                  <a:pt x="80" y="24"/>
                  <a:pt x="32" y="40"/>
                  <a:pt x="16" y="64"/>
                </a:cubicBezTo>
                <a:cubicBezTo>
                  <a:pt x="0" y="88"/>
                  <a:pt x="16" y="120"/>
                  <a:pt x="16" y="160"/>
                </a:cubicBezTo>
                <a:cubicBezTo>
                  <a:pt x="16" y="200"/>
                  <a:pt x="8" y="232"/>
                  <a:pt x="16" y="304"/>
                </a:cubicBezTo>
                <a:cubicBezTo>
                  <a:pt x="24" y="376"/>
                  <a:pt x="40" y="488"/>
                  <a:pt x="64" y="592"/>
                </a:cubicBezTo>
                <a:cubicBezTo>
                  <a:pt x="88" y="696"/>
                  <a:pt x="120" y="808"/>
                  <a:pt x="160" y="928"/>
                </a:cubicBezTo>
                <a:cubicBezTo>
                  <a:pt x="200" y="1048"/>
                  <a:pt x="248" y="1176"/>
                  <a:pt x="304" y="1312"/>
                </a:cubicBezTo>
                <a:cubicBezTo>
                  <a:pt x="360" y="1448"/>
                  <a:pt x="416" y="1576"/>
                  <a:pt x="496" y="1744"/>
                </a:cubicBezTo>
                <a:cubicBezTo>
                  <a:pt x="576" y="1912"/>
                  <a:pt x="688" y="2176"/>
                  <a:pt x="784" y="2320"/>
                </a:cubicBezTo>
                <a:cubicBezTo>
                  <a:pt x="880" y="2464"/>
                  <a:pt x="968" y="2512"/>
                  <a:pt x="1072" y="2608"/>
                </a:cubicBezTo>
                <a:cubicBezTo>
                  <a:pt x="1176" y="2704"/>
                  <a:pt x="1280" y="2800"/>
                  <a:pt x="1408" y="2896"/>
                </a:cubicBezTo>
                <a:cubicBezTo>
                  <a:pt x="1536" y="2992"/>
                  <a:pt x="1696" y="3088"/>
                  <a:pt x="1840" y="3184"/>
                </a:cubicBezTo>
                <a:cubicBezTo>
                  <a:pt x="1984" y="3280"/>
                  <a:pt x="2096" y="3376"/>
                  <a:pt x="2272" y="3472"/>
                </a:cubicBezTo>
                <a:cubicBezTo>
                  <a:pt x="2448" y="3568"/>
                  <a:pt x="2688" y="3688"/>
                  <a:pt x="2896" y="3760"/>
                </a:cubicBezTo>
                <a:cubicBezTo>
                  <a:pt x="3104" y="3832"/>
                  <a:pt x="3328" y="3864"/>
                  <a:pt x="3520" y="3904"/>
                </a:cubicBezTo>
                <a:cubicBezTo>
                  <a:pt x="3712" y="3944"/>
                  <a:pt x="3912" y="3976"/>
                  <a:pt x="4048" y="4000"/>
                </a:cubicBezTo>
                <a:cubicBezTo>
                  <a:pt x="4184" y="4024"/>
                  <a:pt x="4260" y="4036"/>
                  <a:pt x="4336" y="404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-114480" y="1158840"/>
            <a:ext cx="6115320" cy="5851440"/>
          </a:xfrm>
          <a:custGeom>
            <a:avLst/>
            <a:gdLst>
              <a:gd name="textAreaLeft" fmla="*/ 0 w 6115320"/>
              <a:gd name="textAreaRight" fmla="*/ 6115680 w 6115320"/>
              <a:gd name="textAreaTop" fmla="*/ 0 h 5851440"/>
              <a:gd name="textAreaBottom" fmla="*/ 5851800 h 5851440"/>
            </a:gdLst>
            <a:ahLst/>
            <a:rect l="textAreaLeft" t="textAreaTop" r="textAreaRight" b="textAreaBottom"/>
            <a:pathLst>
              <a:path w="2568" h="2984">
                <a:moveTo>
                  <a:pt x="48" y="2984"/>
                </a:moveTo>
                <a:cubicBezTo>
                  <a:pt x="92" y="2968"/>
                  <a:pt x="136" y="2952"/>
                  <a:pt x="192" y="2936"/>
                </a:cubicBezTo>
                <a:cubicBezTo>
                  <a:pt x="248" y="2920"/>
                  <a:pt x="312" y="2912"/>
                  <a:pt x="384" y="2888"/>
                </a:cubicBezTo>
                <a:cubicBezTo>
                  <a:pt x="456" y="2864"/>
                  <a:pt x="552" y="2824"/>
                  <a:pt x="624" y="2792"/>
                </a:cubicBezTo>
                <a:cubicBezTo>
                  <a:pt x="696" y="2760"/>
                  <a:pt x="760" y="2720"/>
                  <a:pt x="816" y="2696"/>
                </a:cubicBezTo>
                <a:cubicBezTo>
                  <a:pt x="872" y="2672"/>
                  <a:pt x="912" y="2656"/>
                  <a:pt x="960" y="2648"/>
                </a:cubicBezTo>
                <a:cubicBezTo>
                  <a:pt x="1008" y="2640"/>
                  <a:pt x="1048" y="2648"/>
                  <a:pt x="1104" y="2648"/>
                </a:cubicBezTo>
                <a:cubicBezTo>
                  <a:pt x="1160" y="2648"/>
                  <a:pt x="1248" y="2640"/>
                  <a:pt x="1296" y="2648"/>
                </a:cubicBezTo>
                <a:cubicBezTo>
                  <a:pt x="1344" y="2656"/>
                  <a:pt x="1344" y="2680"/>
                  <a:pt x="1392" y="2696"/>
                </a:cubicBezTo>
                <a:cubicBezTo>
                  <a:pt x="1440" y="2712"/>
                  <a:pt x="1528" y="2736"/>
                  <a:pt x="1584" y="2744"/>
                </a:cubicBezTo>
                <a:cubicBezTo>
                  <a:pt x="1640" y="2752"/>
                  <a:pt x="1648" y="2744"/>
                  <a:pt x="1728" y="2744"/>
                </a:cubicBezTo>
                <a:cubicBezTo>
                  <a:pt x="1808" y="2744"/>
                  <a:pt x="1968" y="2744"/>
                  <a:pt x="2064" y="2744"/>
                </a:cubicBezTo>
                <a:cubicBezTo>
                  <a:pt x="2160" y="2744"/>
                  <a:pt x="2240" y="2744"/>
                  <a:pt x="2304" y="2744"/>
                </a:cubicBezTo>
                <a:cubicBezTo>
                  <a:pt x="2368" y="2744"/>
                  <a:pt x="2408" y="2760"/>
                  <a:pt x="2448" y="2744"/>
                </a:cubicBezTo>
                <a:cubicBezTo>
                  <a:pt x="2488" y="2728"/>
                  <a:pt x="2528" y="2688"/>
                  <a:pt x="2544" y="2648"/>
                </a:cubicBezTo>
                <a:cubicBezTo>
                  <a:pt x="2560" y="2608"/>
                  <a:pt x="2568" y="2568"/>
                  <a:pt x="2544" y="2504"/>
                </a:cubicBezTo>
                <a:cubicBezTo>
                  <a:pt x="2520" y="2440"/>
                  <a:pt x="2464" y="2392"/>
                  <a:pt x="2400" y="2264"/>
                </a:cubicBezTo>
                <a:cubicBezTo>
                  <a:pt x="2336" y="2136"/>
                  <a:pt x="2232" y="1912"/>
                  <a:pt x="2160" y="1736"/>
                </a:cubicBezTo>
                <a:cubicBezTo>
                  <a:pt x="2088" y="1560"/>
                  <a:pt x="2016" y="1376"/>
                  <a:pt x="1968" y="1208"/>
                </a:cubicBezTo>
                <a:cubicBezTo>
                  <a:pt x="1920" y="1040"/>
                  <a:pt x="1904" y="888"/>
                  <a:pt x="1872" y="728"/>
                </a:cubicBezTo>
                <a:cubicBezTo>
                  <a:pt x="1840" y="568"/>
                  <a:pt x="1800" y="360"/>
                  <a:pt x="1776" y="248"/>
                </a:cubicBezTo>
                <a:cubicBezTo>
                  <a:pt x="1752" y="136"/>
                  <a:pt x="1760" y="96"/>
                  <a:pt x="1728" y="56"/>
                </a:cubicBezTo>
                <a:cubicBezTo>
                  <a:pt x="1696" y="16"/>
                  <a:pt x="1624" y="0"/>
                  <a:pt x="1584" y="8"/>
                </a:cubicBezTo>
                <a:cubicBezTo>
                  <a:pt x="1544" y="16"/>
                  <a:pt x="1520" y="56"/>
                  <a:pt x="1488" y="104"/>
                </a:cubicBezTo>
                <a:cubicBezTo>
                  <a:pt x="1456" y="152"/>
                  <a:pt x="1440" y="200"/>
                  <a:pt x="1392" y="296"/>
                </a:cubicBezTo>
                <a:cubicBezTo>
                  <a:pt x="1344" y="392"/>
                  <a:pt x="1288" y="520"/>
                  <a:pt x="1200" y="680"/>
                </a:cubicBezTo>
                <a:cubicBezTo>
                  <a:pt x="1112" y="840"/>
                  <a:pt x="976" y="1080"/>
                  <a:pt x="864" y="1256"/>
                </a:cubicBezTo>
                <a:cubicBezTo>
                  <a:pt x="752" y="1432"/>
                  <a:pt x="608" y="1632"/>
                  <a:pt x="528" y="1736"/>
                </a:cubicBezTo>
                <a:cubicBezTo>
                  <a:pt x="448" y="1840"/>
                  <a:pt x="424" y="1848"/>
                  <a:pt x="384" y="1880"/>
                </a:cubicBezTo>
                <a:cubicBezTo>
                  <a:pt x="344" y="1912"/>
                  <a:pt x="320" y="1920"/>
                  <a:pt x="288" y="1928"/>
                </a:cubicBezTo>
                <a:cubicBezTo>
                  <a:pt x="256" y="1936"/>
                  <a:pt x="232" y="1928"/>
                  <a:pt x="192" y="1928"/>
                </a:cubicBezTo>
                <a:cubicBezTo>
                  <a:pt x="152" y="1928"/>
                  <a:pt x="80" y="1928"/>
                  <a:pt x="48" y="1928"/>
                </a:cubicBezTo>
                <a:cubicBezTo>
                  <a:pt x="16" y="1928"/>
                  <a:pt x="8" y="1928"/>
                  <a:pt x="0" y="192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13258800" y="4299120"/>
            <a:ext cx="1828800" cy="501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768" h="256">
                <a:moveTo>
                  <a:pt x="768" y="64"/>
                </a:moveTo>
                <a:cubicBezTo>
                  <a:pt x="712" y="44"/>
                  <a:pt x="656" y="24"/>
                  <a:pt x="624" y="16"/>
                </a:cubicBezTo>
                <a:cubicBezTo>
                  <a:pt x="592" y="8"/>
                  <a:pt x="608" y="16"/>
                  <a:pt x="576" y="16"/>
                </a:cubicBezTo>
                <a:cubicBezTo>
                  <a:pt x="544" y="16"/>
                  <a:pt x="464" y="16"/>
                  <a:pt x="432" y="16"/>
                </a:cubicBezTo>
                <a:cubicBezTo>
                  <a:pt x="400" y="16"/>
                  <a:pt x="416" y="0"/>
                  <a:pt x="384" y="16"/>
                </a:cubicBezTo>
                <a:cubicBezTo>
                  <a:pt x="352" y="32"/>
                  <a:pt x="280" y="88"/>
                  <a:pt x="240" y="112"/>
                </a:cubicBezTo>
                <a:cubicBezTo>
                  <a:pt x="200" y="136"/>
                  <a:pt x="168" y="144"/>
                  <a:pt x="144" y="160"/>
                </a:cubicBezTo>
                <a:cubicBezTo>
                  <a:pt x="120" y="176"/>
                  <a:pt x="120" y="192"/>
                  <a:pt x="96" y="208"/>
                </a:cubicBezTo>
                <a:cubicBezTo>
                  <a:pt x="72" y="224"/>
                  <a:pt x="16" y="248"/>
                  <a:pt x="0" y="256"/>
                </a:cubicBezTo>
              </a:path>
            </a:pathLst>
          </a:custGeom>
          <a:noFill/>
          <a:ln w="1908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3"/>
          <p:cNvSpPr/>
          <p:nvPr/>
        </p:nvSpPr>
        <p:spPr>
          <a:xfrm>
            <a:off x="8572680" y="3164040"/>
            <a:ext cx="6514920" cy="188640"/>
          </a:xfrm>
          <a:custGeom>
            <a:avLst/>
            <a:gdLst>
              <a:gd name="textAreaLeft" fmla="*/ 0 w 6514920"/>
              <a:gd name="textAreaRight" fmla="*/ 6515280 w 651492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1447920" y="7051680"/>
            <a:ext cx="2895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GRANI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2666880" y="1676520"/>
            <a:ext cx="1905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UMI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81080" y="3124080"/>
            <a:ext cx="2286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SCOR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76320" y="3562200"/>
            <a:ext cx="2209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OBSIDIA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4952880" y="1981080"/>
            <a:ext cx="2057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CONGLOME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6781680" y="3317760"/>
            <a:ext cx="2514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ANDSTON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9448920" y="4343400"/>
            <a:ext cx="2666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HAL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12877920" y="5029200"/>
            <a:ext cx="2057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LIMESTON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13601880" y="4518000"/>
            <a:ext cx="182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REE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3" descr="BD21298_"/>
          <p:cNvPicPr/>
          <p:nvPr/>
        </p:nvPicPr>
        <p:blipFill>
          <a:blip r:embed="rId1"/>
          <a:stretch/>
        </p:blipFill>
        <p:spPr>
          <a:xfrm rot="2157000">
            <a:off x="7314840" y="6705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5" descr="BD21298_"/>
          <p:cNvPicPr/>
          <p:nvPr/>
        </p:nvPicPr>
        <p:blipFill>
          <a:blip r:embed="rId2"/>
          <a:stretch/>
        </p:blipFill>
        <p:spPr>
          <a:xfrm rot="1860000">
            <a:off x="9219960" y="7620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BD21298_"/>
          <p:cNvPicPr/>
          <p:nvPr/>
        </p:nvPicPr>
        <p:blipFill>
          <a:blip r:embed="rId3"/>
          <a:stretch/>
        </p:blipFill>
        <p:spPr>
          <a:xfrm rot="1134000">
            <a:off x="12039480" y="8610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7" descr="BD21298_"/>
          <p:cNvPicPr/>
          <p:nvPr/>
        </p:nvPicPr>
        <p:blipFill>
          <a:blip r:embed="rId4"/>
          <a:stretch/>
        </p:blipFill>
        <p:spPr>
          <a:xfrm rot="19564800">
            <a:off x="5714640" y="51051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8" descr="BD21298_"/>
          <p:cNvPicPr/>
          <p:nvPr/>
        </p:nvPicPr>
        <p:blipFill>
          <a:blip r:embed="rId5"/>
          <a:stretch/>
        </p:blipFill>
        <p:spPr>
          <a:xfrm rot="19743600">
            <a:off x="4981680" y="391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0" descr="BD21298_"/>
          <p:cNvPicPr/>
          <p:nvPr/>
        </p:nvPicPr>
        <p:blipFill>
          <a:blip r:embed="rId6"/>
          <a:stretch/>
        </p:blipFill>
        <p:spPr>
          <a:xfrm rot="20849400">
            <a:off x="4191120" y="13712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1" descr="BD21298_"/>
          <p:cNvPicPr/>
          <p:nvPr/>
        </p:nvPicPr>
        <p:blipFill>
          <a:blip r:embed="rId7"/>
          <a:stretch/>
        </p:blipFill>
        <p:spPr>
          <a:xfrm rot="2125200">
            <a:off x="2666880" y="1219320"/>
            <a:ext cx="322560" cy="8380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3"/>
          <p:cNvSpPr/>
          <p:nvPr/>
        </p:nvSpPr>
        <p:spPr>
          <a:xfrm>
            <a:off x="6956640" y="17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277400" y="1919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957800" y="2300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60644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8160480" y="2468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8541000" y="2757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9201600" y="3154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8857080" y="29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9542880" y="327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9847800" y="34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10172880" y="3595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55"/>
          <p:cNvSpPr/>
          <p:nvPr/>
        </p:nvSpPr>
        <p:spPr>
          <a:xfrm>
            <a:off x="10990800" y="3887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11352600" y="3976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11724120" y="4102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12057480" y="4146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9"/>
          <p:cNvSpPr/>
          <p:nvPr/>
        </p:nvSpPr>
        <p:spPr>
          <a:xfrm>
            <a:off x="12382560" y="4249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0"/>
          <p:cNvSpPr/>
          <p:nvPr/>
        </p:nvSpPr>
        <p:spPr>
          <a:xfrm>
            <a:off x="6066360" y="4081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1"/>
          <p:cNvSpPr/>
          <p:nvPr/>
        </p:nvSpPr>
        <p:spPr>
          <a:xfrm>
            <a:off x="6286680" y="45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2"/>
          <p:cNvSpPr/>
          <p:nvPr/>
        </p:nvSpPr>
        <p:spPr>
          <a:xfrm>
            <a:off x="6510960" y="4921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3"/>
          <p:cNvSpPr/>
          <p:nvPr/>
        </p:nvSpPr>
        <p:spPr>
          <a:xfrm>
            <a:off x="6831720" y="5224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4"/>
          <p:cNvSpPr/>
          <p:nvPr/>
        </p:nvSpPr>
        <p:spPr>
          <a:xfrm>
            <a:off x="7188840" y="54687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65"/>
          <p:cNvSpPr/>
          <p:nvPr/>
        </p:nvSpPr>
        <p:spPr>
          <a:xfrm>
            <a:off x="7587000" y="5729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66"/>
          <p:cNvSpPr/>
          <p:nvPr/>
        </p:nvSpPr>
        <p:spPr>
          <a:xfrm>
            <a:off x="7942680" y="5958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8278920" y="617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8612640" y="635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8993160" y="6554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9165240" y="6719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10076400" y="716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10438200" y="7361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10809720" y="7486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11143080" y="760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11468160" y="7729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6"/>
          <p:cNvSpPr/>
          <p:nvPr/>
        </p:nvSpPr>
        <p:spPr>
          <a:xfrm>
            <a:off x="687240" y="5346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7"/>
          <p:cNvSpPr/>
          <p:nvPr/>
        </p:nvSpPr>
        <p:spPr>
          <a:xfrm>
            <a:off x="839880" y="5256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8"/>
          <p:cNvSpPr/>
          <p:nvPr/>
        </p:nvSpPr>
        <p:spPr>
          <a:xfrm>
            <a:off x="1176840" y="51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9"/>
          <p:cNvSpPr/>
          <p:nvPr/>
        </p:nvSpPr>
        <p:spPr>
          <a:xfrm>
            <a:off x="1500480" y="515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80"/>
          <p:cNvSpPr/>
          <p:nvPr/>
        </p:nvSpPr>
        <p:spPr>
          <a:xfrm>
            <a:off x="1792440" y="5119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1"/>
          <p:cNvSpPr/>
          <p:nvPr/>
        </p:nvSpPr>
        <p:spPr>
          <a:xfrm>
            <a:off x="21229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2"/>
          <p:cNvSpPr/>
          <p:nvPr/>
        </p:nvSpPr>
        <p:spPr>
          <a:xfrm>
            <a:off x="2440080" y="512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3"/>
          <p:cNvSpPr/>
          <p:nvPr/>
        </p:nvSpPr>
        <p:spPr>
          <a:xfrm>
            <a:off x="30661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4"/>
          <p:cNvSpPr/>
          <p:nvPr/>
        </p:nvSpPr>
        <p:spPr>
          <a:xfrm>
            <a:off x="3354480" y="514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5"/>
          <p:cNvSpPr/>
          <p:nvPr/>
        </p:nvSpPr>
        <p:spPr>
          <a:xfrm>
            <a:off x="3675600" y="5165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6"/>
          <p:cNvSpPr/>
          <p:nvPr/>
        </p:nvSpPr>
        <p:spPr>
          <a:xfrm>
            <a:off x="3980520" y="51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7"/>
          <p:cNvSpPr/>
          <p:nvPr/>
        </p:nvSpPr>
        <p:spPr>
          <a:xfrm>
            <a:off x="4268880" y="519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8"/>
          <p:cNvSpPr/>
          <p:nvPr/>
        </p:nvSpPr>
        <p:spPr>
          <a:xfrm>
            <a:off x="0" y="929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Jane  B Schuelke   More! Rocks in Your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9"/>
          <p:cNvSpPr/>
          <p:nvPr/>
        </p:nvSpPr>
        <p:spPr>
          <a:xfrm>
            <a:off x="6781680" y="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OCK IS BOR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etamorphi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Heat &amp; Pressu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92" descr="BD21298_"/>
          <p:cNvPicPr/>
          <p:nvPr/>
        </p:nvPicPr>
        <p:blipFill>
          <a:blip r:embed="rId8"/>
          <a:stretch/>
        </p:blipFill>
        <p:spPr>
          <a:xfrm rot="19708200">
            <a:off x="5923080" y="668448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97"/>
          <p:cNvSpPr/>
          <p:nvPr/>
        </p:nvSpPr>
        <p:spPr>
          <a:xfrm>
            <a:off x="0" y="6248520"/>
            <a:ext cx="5638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96"/>
          <p:cNvSpPr/>
          <p:nvPr/>
        </p:nvSpPr>
        <p:spPr>
          <a:xfrm>
            <a:off x="-31680" y="6116760"/>
            <a:ext cx="5697360" cy="536400"/>
          </a:xfrm>
          <a:custGeom>
            <a:avLst/>
            <a:gdLst>
              <a:gd name="textAreaLeft" fmla="*/ 0 w 5697360"/>
              <a:gd name="textAreaRight" fmla="*/ 5697720 w 569736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589" h="338">
                <a:moveTo>
                  <a:pt x="3589" y="272"/>
                </a:moveTo>
                <a:cubicBezTo>
                  <a:pt x="3052" y="266"/>
                  <a:pt x="2733" y="338"/>
                  <a:pt x="2304" y="200"/>
                </a:cubicBezTo>
                <a:cubicBezTo>
                  <a:pt x="2249" y="163"/>
                  <a:pt x="2191" y="145"/>
                  <a:pt x="2129" y="128"/>
                </a:cubicBezTo>
                <a:cubicBezTo>
                  <a:pt x="2036" y="102"/>
                  <a:pt x="1947" y="69"/>
                  <a:pt x="1851" y="56"/>
                </a:cubicBezTo>
                <a:cubicBezTo>
                  <a:pt x="1693" y="0"/>
                  <a:pt x="1175" y="44"/>
                  <a:pt x="1131" y="45"/>
                </a:cubicBezTo>
                <a:cubicBezTo>
                  <a:pt x="993" y="75"/>
                  <a:pt x="861" y="105"/>
                  <a:pt x="720" y="117"/>
                </a:cubicBezTo>
                <a:cubicBezTo>
                  <a:pt x="644" y="130"/>
                  <a:pt x="577" y="161"/>
                  <a:pt x="504" y="179"/>
                </a:cubicBezTo>
                <a:cubicBezTo>
                  <a:pt x="416" y="200"/>
                  <a:pt x="339" y="213"/>
                  <a:pt x="247" y="220"/>
                </a:cubicBezTo>
                <a:cubicBezTo>
                  <a:pt x="226" y="227"/>
                  <a:pt x="203" y="229"/>
                  <a:pt x="185" y="241"/>
                </a:cubicBezTo>
                <a:cubicBezTo>
                  <a:pt x="175" y="248"/>
                  <a:pt x="165" y="256"/>
                  <a:pt x="154" y="261"/>
                </a:cubicBezTo>
                <a:cubicBezTo>
                  <a:pt x="134" y="270"/>
                  <a:pt x="110" y="270"/>
                  <a:pt x="92" y="282"/>
                </a:cubicBezTo>
                <a:cubicBezTo>
                  <a:pt x="82" y="289"/>
                  <a:pt x="72" y="297"/>
                  <a:pt x="61" y="302"/>
                </a:cubicBezTo>
                <a:cubicBezTo>
                  <a:pt x="48" y="308"/>
                  <a:pt x="33" y="308"/>
                  <a:pt x="20" y="313"/>
                </a:cubicBezTo>
                <a:cubicBezTo>
                  <a:pt x="13" y="315"/>
                  <a:pt x="7" y="320"/>
                  <a:pt x="0" y="323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98" descr="j0233594"/>
          <p:cNvPicPr/>
          <p:nvPr/>
        </p:nvPicPr>
        <p:blipFill>
          <a:blip r:embed="rId9"/>
          <a:stretch/>
        </p:blipFill>
        <p:spPr>
          <a:xfrm>
            <a:off x="14630400" y="407520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0"/>
          <p:cNvSpPr/>
          <p:nvPr/>
        </p:nvSpPr>
        <p:spPr>
          <a:xfrm rot="1838400">
            <a:off x="4266720" y="114264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Sediment erodes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1"/>
          <p:cNvSpPr/>
          <p:nvPr/>
        </p:nvSpPr>
        <p:spPr>
          <a:xfrm>
            <a:off x="6356520" y="1508040"/>
            <a:ext cx="152280" cy="152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2"/>
          <p:cNvSpPr/>
          <p:nvPr/>
        </p:nvSpPr>
        <p:spPr>
          <a:xfrm rot="530400">
            <a:off x="11124720" y="816768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eat and pressure change rock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3"/>
          <p:cNvSpPr/>
          <p:nvPr/>
        </p:nvSpPr>
        <p:spPr>
          <a:xfrm>
            <a:off x="1219320" y="5576760"/>
            <a:ext cx="33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6600ff"/>
                </a:solidFill>
                <a:latin typeface="Arial"/>
              </a:rPr>
              <a:t>Solidified magma or lava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traight Connector 93"/>
          <p:cNvSpPr/>
          <p:nvPr/>
        </p:nvSpPr>
        <p:spPr>
          <a:xfrm>
            <a:off x="5665680" y="6548400"/>
            <a:ext cx="430200" cy="13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98" descr="j0233594"/>
          <p:cNvPicPr/>
          <p:nvPr/>
        </p:nvPicPr>
        <p:blipFill>
          <a:blip r:embed="rId10"/>
          <a:stretch/>
        </p:blipFill>
        <p:spPr>
          <a:xfrm>
            <a:off x="228600" y="3352680"/>
            <a:ext cx="228600" cy="115920"/>
          </a:xfrm>
          <a:prstGeom prst="rect">
            <a:avLst/>
          </a:prstGeom>
          <a:ln w="0">
            <a:noFill/>
          </a:ln>
        </p:spPr>
      </p:pic>
      <p:cxnSp>
        <p:nvCxnSpPr>
          <p:cNvPr id="372" name="Straight Connector 95"/>
          <p:cNvCxnSpPr/>
          <p:nvPr/>
        </p:nvCxnSpPr>
        <p:spPr>
          <a:xfrm flipV="1">
            <a:off x="3962520" y="1066320"/>
            <a:ext cx="838800" cy="153360"/>
          </a:xfrm>
          <a:prstGeom prst="curvedConnector5">
            <a:avLst>
              <a:gd name="adj1" fmla="val 40875"/>
              <a:gd name="adj2" fmla="val 49882"/>
              <a:gd name="adj3" fmla="val 40875"/>
            </a:avLst>
          </a:prstGeom>
          <a:ln w="54000">
            <a:solidFill>
              <a:srgbClr val="ff0000"/>
            </a:solidFill>
            <a:miter/>
          </a:ln>
        </p:spPr>
      </p:cxnSp>
      <p:pic>
        <p:nvPicPr>
          <p:cNvPr id="373" name="Picture 2" descr=""/>
          <p:cNvPicPr/>
          <p:nvPr/>
        </p:nvPicPr>
        <p:blipFill>
          <a:blip r:embed="rId11"/>
          <a:stretch/>
        </p:blipFill>
        <p:spPr>
          <a:xfrm>
            <a:off x="2971800" y="0"/>
            <a:ext cx="1981080" cy="9097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6"/>
          <p:cNvSpPr/>
          <p:nvPr/>
        </p:nvSpPr>
        <p:spPr>
          <a:xfrm>
            <a:off x="6553080" y="4019400"/>
            <a:ext cx="1828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QUARTZI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sandston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7848720" y="5527800"/>
            <a:ext cx="1828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L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shal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10820520" y="6934320"/>
            <a:ext cx="1828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RB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limeston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010280" y="8686800"/>
            <a:ext cx="1828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NEIS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grani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7"/>
          <p:cNvSpPr/>
          <p:nvPr/>
        </p:nvSpPr>
        <p:spPr>
          <a:xfrm>
            <a:off x="4191120" y="7759800"/>
            <a:ext cx="8839080" cy="18414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0000" h="10985">
                <a:moveTo>
                  <a:pt x="0" y="10985"/>
                </a:moveTo>
                <a:cubicBezTo>
                  <a:pt x="351" y="9232"/>
                  <a:pt x="417" y="8788"/>
                  <a:pt x="604" y="7803"/>
                </a:cubicBezTo>
                <a:cubicBezTo>
                  <a:pt x="791" y="6818"/>
                  <a:pt x="920" y="5909"/>
                  <a:pt x="1121" y="5076"/>
                </a:cubicBezTo>
                <a:cubicBezTo>
                  <a:pt x="1322" y="4243"/>
                  <a:pt x="1567" y="3636"/>
                  <a:pt x="1811" y="2803"/>
                </a:cubicBezTo>
                <a:cubicBezTo>
                  <a:pt x="2055" y="1970"/>
                  <a:pt x="2271" y="0"/>
                  <a:pt x="2587" y="76"/>
                </a:cubicBezTo>
                <a:cubicBezTo>
                  <a:pt x="2903" y="152"/>
                  <a:pt x="3026" y="4109"/>
                  <a:pt x="3707" y="3258"/>
                </a:cubicBezTo>
                <a:cubicBezTo>
                  <a:pt x="4022" y="3657"/>
                  <a:pt x="4339" y="3561"/>
                  <a:pt x="4569" y="3712"/>
                </a:cubicBezTo>
                <a:cubicBezTo>
                  <a:pt x="4799" y="3863"/>
                  <a:pt x="4971" y="4091"/>
                  <a:pt x="5086" y="4167"/>
                </a:cubicBezTo>
                <a:cubicBezTo>
                  <a:pt x="5201" y="4243"/>
                  <a:pt x="5216" y="4394"/>
                  <a:pt x="5259" y="4167"/>
                </a:cubicBezTo>
                <a:cubicBezTo>
                  <a:pt x="5302" y="3940"/>
                  <a:pt x="5213" y="2801"/>
                  <a:pt x="5345" y="2803"/>
                </a:cubicBezTo>
                <a:cubicBezTo>
                  <a:pt x="5477" y="2805"/>
                  <a:pt x="5832" y="3745"/>
                  <a:pt x="6053" y="4181"/>
                </a:cubicBezTo>
                <a:cubicBezTo>
                  <a:pt x="6274" y="4617"/>
                  <a:pt x="6375" y="4851"/>
                  <a:pt x="6668" y="5418"/>
                </a:cubicBezTo>
                <a:cubicBezTo>
                  <a:pt x="6960" y="5985"/>
                  <a:pt x="7427" y="6913"/>
                  <a:pt x="7807" y="7583"/>
                </a:cubicBezTo>
                <a:cubicBezTo>
                  <a:pt x="8188" y="8253"/>
                  <a:pt x="8626" y="8923"/>
                  <a:pt x="8948" y="9439"/>
                </a:cubicBezTo>
                <a:cubicBezTo>
                  <a:pt x="9269" y="9954"/>
                  <a:pt x="9561" y="10418"/>
                  <a:pt x="9737" y="10676"/>
                </a:cubicBezTo>
                <a:cubicBezTo>
                  <a:pt x="9912" y="10933"/>
                  <a:pt x="9957" y="10959"/>
                  <a:pt x="10000" y="10985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2"/>
          <p:cNvSpPr/>
          <p:nvPr/>
        </p:nvSpPr>
        <p:spPr>
          <a:xfrm flipH="1">
            <a:off x="5334120" y="6324480"/>
            <a:ext cx="2209680" cy="327672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10000" h="10615">
                <a:moveTo>
                  <a:pt x="8052" y="808"/>
                </a:moveTo>
                <a:cubicBezTo>
                  <a:pt x="7335" y="0"/>
                  <a:pt x="7754" y="717"/>
                  <a:pt x="8052" y="1353"/>
                </a:cubicBezTo>
                <a:cubicBezTo>
                  <a:pt x="8350" y="1989"/>
                  <a:pt x="9683" y="3822"/>
                  <a:pt x="9841" y="4622"/>
                </a:cubicBezTo>
                <a:cubicBezTo>
                  <a:pt x="10000" y="5422"/>
                  <a:pt x="9393" y="5348"/>
                  <a:pt x="8946" y="5711"/>
                </a:cubicBezTo>
                <a:cubicBezTo>
                  <a:pt x="8499" y="6074"/>
                  <a:pt x="7903" y="6347"/>
                  <a:pt x="7157" y="6801"/>
                </a:cubicBezTo>
                <a:lnTo>
                  <a:pt x="4473" y="8436"/>
                </a:lnTo>
                <a:cubicBezTo>
                  <a:pt x="3728" y="8890"/>
                  <a:pt x="3280" y="9253"/>
                  <a:pt x="2684" y="9525"/>
                </a:cubicBezTo>
                <a:cubicBezTo>
                  <a:pt x="2088" y="9797"/>
                  <a:pt x="1342" y="9888"/>
                  <a:pt x="895" y="10070"/>
                </a:cubicBezTo>
                <a:cubicBezTo>
                  <a:pt x="448" y="10252"/>
                  <a:pt x="205" y="10292"/>
                  <a:pt x="0" y="1061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9"/>
          <p:cNvSpPr/>
          <p:nvPr/>
        </p:nvSpPr>
        <p:spPr>
          <a:xfrm>
            <a:off x="5121360" y="2514600"/>
            <a:ext cx="2498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ETACONGLOMER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conglome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276720" y="0"/>
            <a:ext cx="1981080" cy="9097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4"/>
          <p:cNvSpPr/>
          <p:nvPr/>
        </p:nvSpPr>
        <p:spPr>
          <a:xfrm>
            <a:off x="10814040" y="8748720"/>
            <a:ext cx="3143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C1A7-60F9-4689-8048-B821BC690DFB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29"/>
          <p:cNvSpPr/>
          <p:nvPr/>
        </p:nvSpPr>
        <p:spPr>
          <a:xfrm>
            <a:off x="0" y="3124080"/>
            <a:ext cx="6515280" cy="189000"/>
          </a:xfrm>
          <a:custGeom>
            <a:avLst/>
            <a:gdLst>
              <a:gd name="textAreaLeft" fmla="*/ 0 w 6515280"/>
              <a:gd name="textAreaRight" fmla="*/ 6515640 w 65152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2133720" y="2895480"/>
            <a:ext cx="4876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7"/>
          <p:cNvSpPr/>
          <p:nvPr/>
        </p:nvSpPr>
        <p:spPr>
          <a:xfrm>
            <a:off x="4191120" y="7759800"/>
            <a:ext cx="8839080" cy="18414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0000" h="10985">
                <a:moveTo>
                  <a:pt x="0" y="10985"/>
                </a:moveTo>
                <a:cubicBezTo>
                  <a:pt x="351" y="9232"/>
                  <a:pt x="417" y="8788"/>
                  <a:pt x="604" y="7803"/>
                </a:cubicBezTo>
                <a:cubicBezTo>
                  <a:pt x="791" y="6818"/>
                  <a:pt x="920" y="5909"/>
                  <a:pt x="1121" y="5076"/>
                </a:cubicBezTo>
                <a:cubicBezTo>
                  <a:pt x="1322" y="4243"/>
                  <a:pt x="1567" y="3636"/>
                  <a:pt x="1811" y="2803"/>
                </a:cubicBezTo>
                <a:cubicBezTo>
                  <a:pt x="2055" y="1970"/>
                  <a:pt x="2271" y="0"/>
                  <a:pt x="2587" y="76"/>
                </a:cubicBezTo>
                <a:cubicBezTo>
                  <a:pt x="2903" y="152"/>
                  <a:pt x="3026" y="4109"/>
                  <a:pt x="3707" y="3258"/>
                </a:cubicBezTo>
                <a:cubicBezTo>
                  <a:pt x="4022" y="3657"/>
                  <a:pt x="4339" y="3561"/>
                  <a:pt x="4569" y="3712"/>
                </a:cubicBezTo>
                <a:cubicBezTo>
                  <a:pt x="4799" y="3863"/>
                  <a:pt x="4971" y="4091"/>
                  <a:pt x="5086" y="4167"/>
                </a:cubicBezTo>
                <a:cubicBezTo>
                  <a:pt x="5201" y="4243"/>
                  <a:pt x="5216" y="4394"/>
                  <a:pt x="5259" y="4167"/>
                </a:cubicBezTo>
                <a:cubicBezTo>
                  <a:pt x="5302" y="3940"/>
                  <a:pt x="5213" y="2801"/>
                  <a:pt x="5345" y="2803"/>
                </a:cubicBezTo>
                <a:cubicBezTo>
                  <a:pt x="5477" y="2805"/>
                  <a:pt x="5832" y="3745"/>
                  <a:pt x="6053" y="4181"/>
                </a:cubicBezTo>
                <a:cubicBezTo>
                  <a:pt x="6274" y="4617"/>
                  <a:pt x="6375" y="4851"/>
                  <a:pt x="6668" y="5418"/>
                </a:cubicBezTo>
                <a:cubicBezTo>
                  <a:pt x="6960" y="5985"/>
                  <a:pt x="7427" y="6913"/>
                  <a:pt x="7807" y="7583"/>
                </a:cubicBezTo>
                <a:cubicBezTo>
                  <a:pt x="8188" y="8253"/>
                  <a:pt x="8626" y="8923"/>
                  <a:pt x="8948" y="9439"/>
                </a:cubicBezTo>
                <a:cubicBezTo>
                  <a:pt x="9269" y="9954"/>
                  <a:pt x="9561" y="10418"/>
                  <a:pt x="9737" y="10676"/>
                </a:cubicBezTo>
                <a:cubicBezTo>
                  <a:pt x="9912" y="10933"/>
                  <a:pt x="9957" y="10959"/>
                  <a:pt x="10000" y="10985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8"/>
          <p:cNvSpPr/>
          <p:nvPr/>
        </p:nvSpPr>
        <p:spPr>
          <a:xfrm>
            <a:off x="4762440" y="914400"/>
            <a:ext cx="10325160" cy="7939080"/>
          </a:xfrm>
          <a:custGeom>
            <a:avLst/>
            <a:gdLst>
              <a:gd name="textAreaLeft" fmla="*/ 0 w 10325160"/>
              <a:gd name="textAreaRight" fmla="*/ 10325520 w 10325160"/>
              <a:gd name="textAreaTop" fmla="*/ 0 h 7939080"/>
              <a:gd name="textAreaBottom" fmla="*/ 7939440 h 7939080"/>
            </a:gdLst>
            <a:ahLst/>
            <a:rect l="textAreaLeft" t="textAreaTop" r="textAreaRight" b="textAreaBottom"/>
            <a:pathLst>
              <a:path w="4336" h="4048">
                <a:moveTo>
                  <a:pt x="4336" y="2080"/>
                </a:moveTo>
                <a:cubicBezTo>
                  <a:pt x="4116" y="2064"/>
                  <a:pt x="3896" y="2048"/>
                  <a:pt x="3760" y="2032"/>
                </a:cubicBezTo>
                <a:cubicBezTo>
                  <a:pt x="3624" y="2016"/>
                  <a:pt x="3624" y="2008"/>
                  <a:pt x="3520" y="1984"/>
                </a:cubicBezTo>
                <a:cubicBezTo>
                  <a:pt x="3416" y="1960"/>
                  <a:pt x="3248" y="1920"/>
                  <a:pt x="3136" y="1888"/>
                </a:cubicBezTo>
                <a:cubicBezTo>
                  <a:pt x="3024" y="1856"/>
                  <a:pt x="2944" y="1824"/>
                  <a:pt x="2848" y="1792"/>
                </a:cubicBezTo>
                <a:cubicBezTo>
                  <a:pt x="2752" y="1760"/>
                  <a:pt x="2672" y="1744"/>
                  <a:pt x="2560" y="1696"/>
                </a:cubicBezTo>
                <a:cubicBezTo>
                  <a:pt x="2448" y="1648"/>
                  <a:pt x="2312" y="1576"/>
                  <a:pt x="2176" y="1504"/>
                </a:cubicBezTo>
                <a:cubicBezTo>
                  <a:pt x="2040" y="1432"/>
                  <a:pt x="1872" y="1352"/>
                  <a:pt x="1744" y="1264"/>
                </a:cubicBezTo>
                <a:cubicBezTo>
                  <a:pt x="1616" y="1176"/>
                  <a:pt x="1520" y="1064"/>
                  <a:pt x="1408" y="976"/>
                </a:cubicBezTo>
                <a:cubicBezTo>
                  <a:pt x="1296" y="888"/>
                  <a:pt x="1168" y="808"/>
                  <a:pt x="1072" y="736"/>
                </a:cubicBezTo>
                <a:cubicBezTo>
                  <a:pt x="976" y="664"/>
                  <a:pt x="904" y="608"/>
                  <a:pt x="832" y="544"/>
                </a:cubicBezTo>
                <a:cubicBezTo>
                  <a:pt x="760" y="480"/>
                  <a:pt x="728" y="424"/>
                  <a:pt x="640" y="352"/>
                </a:cubicBezTo>
                <a:cubicBezTo>
                  <a:pt x="552" y="280"/>
                  <a:pt x="376" y="168"/>
                  <a:pt x="304" y="112"/>
                </a:cubicBezTo>
                <a:cubicBezTo>
                  <a:pt x="232" y="56"/>
                  <a:pt x="240" y="32"/>
                  <a:pt x="208" y="16"/>
                </a:cubicBezTo>
                <a:cubicBezTo>
                  <a:pt x="176" y="0"/>
                  <a:pt x="144" y="8"/>
                  <a:pt x="112" y="16"/>
                </a:cubicBezTo>
                <a:cubicBezTo>
                  <a:pt x="80" y="24"/>
                  <a:pt x="32" y="40"/>
                  <a:pt x="16" y="64"/>
                </a:cubicBezTo>
                <a:cubicBezTo>
                  <a:pt x="0" y="88"/>
                  <a:pt x="16" y="120"/>
                  <a:pt x="16" y="160"/>
                </a:cubicBezTo>
                <a:cubicBezTo>
                  <a:pt x="16" y="200"/>
                  <a:pt x="8" y="232"/>
                  <a:pt x="16" y="304"/>
                </a:cubicBezTo>
                <a:cubicBezTo>
                  <a:pt x="24" y="376"/>
                  <a:pt x="40" y="488"/>
                  <a:pt x="64" y="592"/>
                </a:cubicBezTo>
                <a:cubicBezTo>
                  <a:pt x="88" y="696"/>
                  <a:pt x="120" y="808"/>
                  <a:pt x="160" y="928"/>
                </a:cubicBezTo>
                <a:cubicBezTo>
                  <a:pt x="200" y="1048"/>
                  <a:pt x="248" y="1176"/>
                  <a:pt x="304" y="1312"/>
                </a:cubicBezTo>
                <a:cubicBezTo>
                  <a:pt x="360" y="1448"/>
                  <a:pt x="416" y="1576"/>
                  <a:pt x="496" y="1744"/>
                </a:cubicBezTo>
                <a:cubicBezTo>
                  <a:pt x="576" y="1912"/>
                  <a:pt x="688" y="2176"/>
                  <a:pt x="784" y="2320"/>
                </a:cubicBezTo>
                <a:cubicBezTo>
                  <a:pt x="880" y="2464"/>
                  <a:pt x="968" y="2512"/>
                  <a:pt x="1072" y="2608"/>
                </a:cubicBezTo>
                <a:cubicBezTo>
                  <a:pt x="1176" y="2704"/>
                  <a:pt x="1280" y="2800"/>
                  <a:pt x="1408" y="2896"/>
                </a:cubicBezTo>
                <a:cubicBezTo>
                  <a:pt x="1536" y="2992"/>
                  <a:pt x="1696" y="3088"/>
                  <a:pt x="1840" y="3184"/>
                </a:cubicBezTo>
                <a:cubicBezTo>
                  <a:pt x="1984" y="3280"/>
                  <a:pt x="2096" y="3376"/>
                  <a:pt x="2272" y="3472"/>
                </a:cubicBezTo>
                <a:cubicBezTo>
                  <a:pt x="2448" y="3568"/>
                  <a:pt x="2688" y="3688"/>
                  <a:pt x="2896" y="3760"/>
                </a:cubicBezTo>
                <a:cubicBezTo>
                  <a:pt x="3104" y="3832"/>
                  <a:pt x="3328" y="3864"/>
                  <a:pt x="3520" y="3904"/>
                </a:cubicBezTo>
                <a:cubicBezTo>
                  <a:pt x="3712" y="3944"/>
                  <a:pt x="3912" y="3976"/>
                  <a:pt x="4048" y="4000"/>
                </a:cubicBezTo>
                <a:cubicBezTo>
                  <a:pt x="4184" y="4024"/>
                  <a:pt x="4260" y="4036"/>
                  <a:pt x="4336" y="404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11"/>
          <p:cNvSpPr/>
          <p:nvPr/>
        </p:nvSpPr>
        <p:spPr>
          <a:xfrm>
            <a:off x="-114480" y="1158840"/>
            <a:ext cx="6115320" cy="5851440"/>
          </a:xfrm>
          <a:custGeom>
            <a:avLst/>
            <a:gdLst>
              <a:gd name="textAreaLeft" fmla="*/ 0 w 6115320"/>
              <a:gd name="textAreaRight" fmla="*/ 6115680 w 6115320"/>
              <a:gd name="textAreaTop" fmla="*/ 0 h 5851440"/>
              <a:gd name="textAreaBottom" fmla="*/ 5851800 h 5851440"/>
            </a:gdLst>
            <a:ahLst/>
            <a:rect l="textAreaLeft" t="textAreaTop" r="textAreaRight" b="textAreaBottom"/>
            <a:pathLst>
              <a:path w="2568" h="2984">
                <a:moveTo>
                  <a:pt x="48" y="2984"/>
                </a:moveTo>
                <a:cubicBezTo>
                  <a:pt x="92" y="2968"/>
                  <a:pt x="136" y="2952"/>
                  <a:pt x="192" y="2936"/>
                </a:cubicBezTo>
                <a:cubicBezTo>
                  <a:pt x="248" y="2920"/>
                  <a:pt x="312" y="2912"/>
                  <a:pt x="384" y="2888"/>
                </a:cubicBezTo>
                <a:cubicBezTo>
                  <a:pt x="456" y="2864"/>
                  <a:pt x="552" y="2824"/>
                  <a:pt x="624" y="2792"/>
                </a:cubicBezTo>
                <a:cubicBezTo>
                  <a:pt x="696" y="2760"/>
                  <a:pt x="760" y="2720"/>
                  <a:pt x="816" y="2696"/>
                </a:cubicBezTo>
                <a:cubicBezTo>
                  <a:pt x="872" y="2672"/>
                  <a:pt x="912" y="2656"/>
                  <a:pt x="960" y="2648"/>
                </a:cubicBezTo>
                <a:cubicBezTo>
                  <a:pt x="1008" y="2640"/>
                  <a:pt x="1048" y="2648"/>
                  <a:pt x="1104" y="2648"/>
                </a:cubicBezTo>
                <a:cubicBezTo>
                  <a:pt x="1160" y="2648"/>
                  <a:pt x="1248" y="2640"/>
                  <a:pt x="1296" y="2648"/>
                </a:cubicBezTo>
                <a:cubicBezTo>
                  <a:pt x="1344" y="2656"/>
                  <a:pt x="1344" y="2680"/>
                  <a:pt x="1392" y="2696"/>
                </a:cubicBezTo>
                <a:cubicBezTo>
                  <a:pt x="1440" y="2712"/>
                  <a:pt x="1528" y="2736"/>
                  <a:pt x="1584" y="2744"/>
                </a:cubicBezTo>
                <a:cubicBezTo>
                  <a:pt x="1640" y="2752"/>
                  <a:pt x="1648" y="2744"/>
                  <a:pt x="1728" y="2744"/>
                </a:cubicBezTo>
                <a:cubicBezTo>
                  <a:pt x="1808" y="2744"/>
                  <a:pt x="1968" y="2744"/>
                  <a:pt x="2064" y="2744"/>
                </a:cubicBezTo>
                <a:cubicBezTo>
                  <a:pt x="2160" y="2744"/>
                  <a:pt x="2240" y="2744"/>
                  <a:pt x="2304" y="2744"/>
                </a:cubicBezTo>
                <a:cubicBezTo>
                  <a:pt x="2368" y="2744"/>
                  <a:pt x="2408" y="2760"/>
                  <a:pt x="2448" y="2744"/>
                </a:cubicBezTo>
                <a:cubicBezTo>
                  <a:pt x="2488" y="2728"/>
                  <a:pt x="2528" y="2688"/>
                  <a:pt x="2544" y="2648"/>
                </a:cubicBezTo>
                <a:cubicBezTo>
                  <a:pt x="2560" y="2608"/>
                  <a:pt x="2568" y="2568"/>
                  <a:pt x="2544" y="2504"/>
                </a:cubicBezTo>
                <a:cubicBezTo>
                  <a:pt x="2520" y="2440"/>
                  <a:pt x="2464" y="2392"/>
                  <a:pt x="2400" y="2264"/>
                </a:cubicBezTo>
                <a:cubicBezTo>
                  <a:pt x="2336" y="2136"/>
                  <a:pt x="2232" y="1912"/>
                  <a:pt x="2160" y="1736"/>
                </a:cubicBezTo>
                <a:cubicBezTo>
                  <a:pt x="2088" y="1560"/>
                  <a:pt x="2016" y="1376"/>
                  <a:pt x="1968" y="1208"/>
                </a:cubicBezTo>
                <a:cubicBezTo>
                  <a:pt x="1920" y="1040"/>
                  <a:pt x="1904" y="888"/>
                  <a:pt x="1872" y="728"/>
                </a:cubicBezTo>
                <a:cubicBezTo>
                  <a:pt x="1840" y="568"/>
                  <a:pt x="1800" y="360"/>
                  <a:pt x="1776" y="248"/>
                </a:cubicBezTo>
                <a:cubicBezTo>
                  <a:pt x="1752" y="136"/>
                  <a:pt x="1760" y="96"/>
                  <a:pt x="1728" y="56"/>
                </a:cubicBezTo>
                <a:cubicBezTo>
                  <a:pt x="1696" y="16"/>
                  <a:pt x="1624" y="0"/>
                  <a:pt x="1584" y="8"/>
                </a:cubicBezTo>
                <a:cubicBezTo>
                  <a:pt x="1544" y="16"/>
                  <a:pt x="1520" y="56"/>
                  <a:pt x="1488" y="104"/>
                </a:cubicBezTo>
                <a:cubicBezTo>
                  <a:pt x="1456" y="152"/>
                  <a:pt x="1440" y="200"/>
                  <a:pt x="1392" y="296"/>
                </a:cubicBezTo>
                <a:cubicBezTo>
                  <a:pt x="1344" y="392"/>
                  <a:pt x="1288" y="520"/>
                  <a:pt x="1200" y="680"/>
                </a:cubicBezTo>
                <a:cubicBezTo>
                  <a:pt x="1112" y="840"/>
                  <a:pt x="976" y="1080"/>
                  <a:pt x="864" y="1256"/>
                </a:cubicBezTo>
                <a:cubicBezTo>
                  <a:pt x="752" y="1432"/>
                  <a:pt x="608" y="1632"/>
                  <a:pt x="528" y="1736"/>
                </a:cubicBezTo>
                <a:cubicBezTo>
                  <a:pt x="448" y="1840"/>
                  <a:pt x="424" y="1848"/>
                  <a:pt x="384" y="1880"/>
                </a:cubicBezTo>
                <a:cubicBezTo>
                  <a:pt x="344" y="1912"/>
                  <a:pt x="320" y="1920"/>
                  <a:pt x="288" y="1928"/>
                </a:cubicBezTo>
                <a:cubicBezTo>
                  <a:pt x="256" y="1936"/>
                  <a:pt x="232" y="1928"/>
                  <a:pt x="192" y="1928"/>
                </a:cubicBezTo>
                <a:cubicBezTo>
                  <a:pt x="152" y="1928"/>
                  <a:pt x="80" y="1928"/>
                  <a:pt x="48" y="1928"/>
                </a:cubicBezTo>
                <a:cubicBezTo>
                  <a:pt x="16" y="1928"/>
                  <a:pt x="8" y="1928"/>
                  <a:pt x="0" y="1928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2"/>
          <p:cNvSpPr/>
          <p:nvPr/>
        </p:nvSpPr>
        <p:spPr>
          <a:xfrm>
            <a:off x="13258800" y="4299120"/>
            <a:ext cx="1828800" cy="501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768" h="256">
                <a:moveTo>
                  <a:pt x="768" y="64"/>
                </a:moveTo>
                <a:cubicBezTo>
                  <a:pt x="712" y="44"/>
                  <a:pt x="656" y="24"/>
                  <a:pt x="624" y="16"/>
                </a:cubicBezTo>
                <a:cubicBezTo>
                  <a:pt x="592" y="8"/>
                  <a:pt x="608" y="16"/>
                  <a:pt x="576" y="16"/>
                </a:cubicBezTo>
                <a:cubicBezTo>
                  <a:pt x="544" y="16"/>
                  <a:pt x="464" y="16"/>
                  <a:pt x="432" y="16"/>
                </a:cubicBezTo>
                <a:cubicBezTo>
                  <a:pt x="400" y="16"/>
                  <a:pt x="416" y="0"/>
                  <a:pt x="384" y="16"/>
                </a:cubicBezTo>
                <a:cubicBezTo>
                  <a:pt x="352" y="32"/>
                  <a:pt x="280" y="88"/>
                  <a:pt x="240" y="112"/>
                </a:cubicBezTo>
                <a:cubicBezTo>
                  <a:pt x="200" y="136"/>
                  <a:pt x="168" y="144"/>
                  <a:pt x="144" y="160"/>
                </a:cubicBezTo>
                <a:cubicBezTo>
                  <a:pt x="120" y="176"/>
                  <a:pt x="120" y="192"/>
                  <a:pt x="96" y="208"/>
                </a:cubicBezTo>
                <a:cubicBezTo>
                  <a:pt x="72" y="224"/>
                  <a:pt x="16" y="248"/>
                  <a:pt x="0" y="256"/>
                </a:cubicBezTo>
              </a:path>
            </a:pathLst>
          </a:custGeom>
          <a:noFill/>
          <a:ln w="1908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13"/>
          <p:cNvSpPr/>
          <p:nvPr/>
        </p:nvSpPr>
        <p:spPr>
          <a:xfrm>
            <a:off x="8572680" y="3164040"/>
            <a:ext cx="6514920" cy="188640"/>
          </a:xfrm>
          <a:custGeom>
            <a:avLst/>
            <a:gdLst>
              <a:gd name="textAreaLeft" fmla="*/ 0 w 6514920"/>
              <a:gd name="textAreaRight" fmla="*/ 6515280 w 651492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2736" h="96">
                <a:moveTo>
                  <a:pt x="0" y="0"/>
                </a:moveTo>
                <a:cubicBezTo>
                  <a:pt x="68" y="20"/>
                  <a:pt x="136" y="40"/>
                  <a:pt x="192" y="48"/>
                </a:cubicBezTo>
                <a:cubicBezTo>
                  <a:pt x="248" y="56"/>
                  <a:pt x="296" y="56"/>
                  <a:pt x="336" y="48"/>
                </a:cubicBezTo>
                <a:cubicBezTo>
                  <a:pt x="376" y="40"/>
                  <a:pt x="408" y="0"/>
                  <a:pt x="432" y="0"/>
                </a:cubicBezTo>
                <a:cubicBezTo>
                  <a:pt x="456" y="0"/>
                  <a:pt x="448" y="40"/>
                  <a:pt x="480" y="48"/>
                </a:cubicBezTo>
                <a:cubicBezTo>
                  <a:pt x="512" y="56"/>
                  <a:pt x="584" y="56"/>
                  <a:pt x="624" y="48"/>
                </a:cubicBezTo>
                <a:cubicBezTo>
                  <a:pt x="664" y="40"/>
                  <a:pt x="688" y="0"/>
                  <a:pt x="720" y="0"/>
                </a:cubicBezTo>
                <a:cubicBezTo>
                  <a:pt x="752" y="0"/>
                  <a:pt x="768" y="40"/>
                  <a:pt x="816" y="48"/>
                </a:cubicBezTo>
                <a:cubicBezTo>
                  <a:pt x="864" y="56"/>
                  <a:pt x="968" y="56"/>
                  <a:pt x="1008" y="48"/>
                </a:cubicBezTo>
                <a:cubicBezTo>
                  <a:pt x="1048" y="40"/>
                  <a:pt x="1016" y="0"/>
                  <a:pt x="1056" y="0"/>
                </a:cubicBezTo>
                <a:cubicBezTo>
                  <a:pt x="1096" y="0"/>
                  <a:pt x="1200" y="40"/>
                  <a:pt x="1248" y="48"/>
                </a:cubicBezTo>
                <a:cubicBezTo>
                  <a:pt x="1296" y="56"/>
                  <a:pt x="1320" y="56"/>
                  <a:pt x="1344" y="48"/>
                </a:cubicBezTo>
                <a:cubicBezTo>
                  <a:pt x="1368" y="40"/>
                  <a:pt x="1360" y="0"/>
                  <a:pt x="1392" y="0"/>
                </a:cubicBezTo>
                <a:cubicBezTo>
                  <a:pt x="1424" y="0"/>
                  <a:pt x="1488" y="40"/>
                  <a:pt x="1536" y="48"/>
                </a:cubicBezTo>
                <a:cubicBezTo>
                  <a:pt x="1584" y="56"/>
                  <a:pt x="1648" y="56"/>
                  <a:pt x="1680" y="48"/>
                </a:cubicBezTo>
                <a:cubicBezTo>
                  <a:pt x="1712" y="40"/>
                  <a:pt x="1688" y="0"/>
                  <a:pt x="1728" y="0"/>
                </a:cubicBezTo>
                <a:cubicBezTo>
                  <a:pt x="1768" y="0"/>
                  <a:pt x="1864" y="40"/>
                  <a:pt x="1920" y="48"/>
                </a:cubicBezTo>
                <a:cubicBezTo>
                  <a:pt x="1976" y="56"/>
                  <a:pt x="2032" y="56"/>
                  <a:pt x="2064" y="48"/>
                </a:cubicBezTo>
                <a:cubicBezTo>
                  <a:pt x="2096" y="40"/>
                  <a:pt x="2072" y="0"/>
                  <a:pt x="2112" y="0"/>
                </a:cubicBezTo>
                <a:cubicBezTo>
                  <a:pt x="2152" y="0"/>
                  <a:pt x="2248" y="40"/>
                  <a:pt x="2304" y="48"/>
                </a:cubicBezTo>
                <a:cubicBezTo>
                  <a:pt x="2360" y="56"/>
                  <a:pt x="2416" y="56"/>
                  <a:pt x="2448" y="48"/>
                </a:cubicBezTo>
                <a:cubicBezTo>
                  <a:pt x="2480" y="40"/>
                  <a:pt x="2464" y="0"/>
                  <a:pt x="2496" y="0"/>
                </a:cubicBezTo>
                <a:cubicBezTo>
                  <a:pt x="2528" y="0"/>
                  <a:pt x="2600" y="32"/>
                  <a:pt x="2640" y="48"/>
                </a:cubicBezTo>
                <a:cubicBezTo>
                  <a:pt x="2680" y="64"/>
                  <a:pt x="2708" y="80"/>
                  <a:pt x="2736" y="9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6553080" y="4019400"/>
            <a:ext cx="1828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QUARTZI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sandston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7"/>
          <p:cNvSpPr/>
          <p:nvPr/>
        </p:nvSpPr>
        <p:spPr>
          <a:xfrm>
            <a:off x="7848720" y="5527800"/>
            <a:ext cx="1828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L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shal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10820520" y="6934320"/>
            <a:ext cx="18288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RB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limeston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7010280" y="8915400"/>
            <a:ext cx="1828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NEIS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grani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1447920" y="7051680"/>
            <a:ext cx="2895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GRANI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Intrusive - Phaneriti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oled slowly undergroun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666880" y="1676520"/>
            <a:ext cx="190512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PUMI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Extrusive - Aphaniti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less dens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lighter lav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1981080" y="3124080"/>
            <a:ext cx="22860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SCOR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Extrusive - Aphaniti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more dense darker lav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76320" y="3562200"/>
            <a:ext cx="22096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OBSID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oled very fast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4"/>
          <p:cNvSpPr/>
          <p:nvPr/>
        </p:nvSpPr>
        <p:spPr>
          <a:xfrm>
            <a:off x="4800600" y="1828800"/>
            <a:ext cx="20574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ONGLOMER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pebble size grai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6781680" y="3317760"/>
            <a:ext cx="25146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ANDSTO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and size grai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6"/>
          <p:cNvSpPr/>
          <p:nvPr/>
        </p:nvSpPr>
        <p:spPr>
          <a:xfrm>
            <a:off x="9448920" y="4343400"/>
            <a:ext cx="26668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HA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fine grained silt and clay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7"/>
          <p:cNvSpPr/>
          <p:nvPr/>
        </p:nvSpPr>
        <p:spPr>
          <a:xfrm>
            <a:off x="12877920" y="5029200"/>
            <a:ext cx="205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MESTO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organic reef particl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13601880" y="4518000"/>
            <a:ext cx="182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REE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 rot="1101000">
            <a:off x="9125640" y="824076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alloonEFExtraBold"/>
              </a:rPr>
              <a:t>MAG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33" descr="BD21298_"/>
          <p:cNvPicPr/>
          <p:nvPr/>
        </p:nvPicPr>
        <p:blipFill>
          <a:blip r:embed="rId2"/>
          <a:stretch/>
        </p:blipFill>
        <p:spPr>
          <a:xfrm rot="2157000">
            <a:off x="7314840" y="6705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5" descr="BD21298_"/>
          <p:cNvPicPr/>
          <p:nvPr/>
        </p:nvPicPr>
        <p:blipFill>
          <a:blip r:embed="rId3"/>
          <a:stretch/>
        </p:blipFill>
        <p:spPr>
          <a:xfrm rot="1860000">
            <a:off x="9219960" y="7620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6" descr="BD21298_"/>
          <p:cNvPicPr/>
          <p:nvPr/>
        </p:nvPicPr>
        <p:blipFill>
          <a:blip r:embed="rId4"/>
          <a:stretch/>
        </p:blipFill>
        <p:spPr>
          <a:xfrm rot="1134000">
            <a:off x="12039480" y="8610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" descr="BD21298_"/>
          <p:cNvPicPr/>
          <p:nvPr/>
        </p:nvPicPr>
        <p:blipFill>
          <a:blip r:embed="rId5"/>
          <a:stretch/>
        </p:blipFill>
        <p:spPr>
          <a:xfrm rot="19564800">
            <a:off x="5714640" y="51051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8" descr="BD21298_"/>
          <p:cNvPicPr/>
          <p:nvPr/>
        </p:nvPicPr>
        <p:blipFill>
          <a:blip r:embed="rId6"/>
          <a:stretch/>
        </p:blipFill>
        <p:spPr>
          <a:xfrm rot="19743600">
            <a:off x="4981680" y="3914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9"/>
          <p:cNvSpPr/>
          <p:nvPr/>
        </p:nvSpPr>
        <p:spPr>
          <a:xfrm rot="21198000">
            <a:off x="2111040" y="70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alloonEFExtraBold"/>
              </a:rPr>
              <a:t>LAV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40" descr="BD21298_"/>
          <p:cNvPicPr/>
          <p:nvPr/>
        </p:nvPicPr>
        <p:blipFill>
          <a:blip r:embed="rId7"/>
          <a:stretch/>
        </p:blipFill>
        <p:spPr>
          <a:xfrm rot="20849400">
            <a:off x="4191120" y="13712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1" descr="BD21298_"/>
          <p:cNvPicPr/>
          <p:nvPr/>
        </p:nvPicPr>
        <p:blipFill>
          <a:blip r:embed="rId8"/>
          <a:stretch/>
        </p:blipFill>
        <p:spPr>
          <a:xfrm rot="2125200">
            <a:off x="2666880" y="1219320"/>
            <a:ext cx="322560" cy="838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3"/>
          <p:cNvSpPr/>
          <p:nvPr/>
        </p:nvSpPr>
        <p:spPr>
          <a:xfrm>
            <a:off x="6956640" y="17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44"/>
          <p:cNvSpPr/>
          <p:nvPr/>
        </p:nvSpPr>
        <p:spPr>
          <a:xfrm>
            <a:off x="7277400" y="19191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5"/>
          <p:cNvSpPr/>
          <p:nvPr/>
        </p:nvSpPr>
        <p:spPr>
          <a:xfrm>
            <a:off x="7957800" y="2300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46"/>
          <p:cNvSpPr/>
          <p:nvPr/>
        </p:nvSpPr>
        <p:spPr>
          <a:xfrm>
            <a:off x="760644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7"/>
          <p:cNvSpPr/>
          <p:nvPr/>
        </p:nvSpPr>
        <p:spPr>
          <a:xfrm>
            <a:off x="8160480" y="24685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8"/>
          <p:cNvSpPr/>
          <p:nvPr/>
        </p:nvSpPr>
        <p:spPr>
          <a:xfrm>
            <a:off x="8541000" y="2757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9"/>
          <p:cNvSpPr/>
          <p:nvPr/>
        </p:nvSpPr>
        <p:spPr>
          <a:xfrm>
            <a:off x="9201600" y="3154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0"/>
          <p:cNvSpPr/>
          <p:nvPr/>
        </p:nvSpPr>
        <p:spPr>
          <a:xfrm>
            <a:off x="8857080" y="29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9542880" y="327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2"/>
          <p:cNvSpPr/>
          <p:nvPr/>
        </p:nvSpPr>
        <p:spPr>
          <a:xfrm>
            <a:off x="9847800" y="34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3"/>
          <p:cNvSpPr/>
          <p:nvPr/>
        </p:nvSpPr>
        <p:spPr>
          <a:xfrm>
            <a:off x="10172880" y="3595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5"/>
          <p:cNvSpPr/>
          <p:nvPr/>
        </p:nvSpPr>
        <p:spPr>
          <a:xfrm>
            <a:off x="10990800" y="3887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6"/>
          <p:cNvSpPr/>
          <p:nvPr/>
        </p:nvSpPr>
        <p:spPr>
          <a:xfrm>
            <a:off x="11352600" y="3976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7"/>
          <p:cNvSpPr/>
          <p:nvPr/>
        </p:nvSpPr>
        <p:spPr>
          <a:xfrm>
            <a:off x="11724120" y="4102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12057480" y="4146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9"/>
          <p:cNvSpPr/>
          <p:nvPr/>
        </p:nvSpPr>
        <p:spPr>
          <a:xfrm>
            <a:off x="12382560" y="4249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0"/>
          <p:cNvSpPr/>
          <p:nvPr/>
        </p:nvSpPr>
        <p:spPr>
          <a:xfrm>
            <a:off x="6066360" y="4081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61"/>
          <p:cNvSpPr/>
          <p:nvPr/>
        </p:nvSpPr>
        <p:spPr>
          <a:xfrm>
            <a:off x="6286680" y="45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2"/>
          <p:cNvSpPr/>
          <p:nvPr/>
        </p:nvSpPr>
        <p:spPr>
          <a:xfrm>
            <a:off x="6510960" y="4921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6831720" y="5224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64"/>
          <p:cNvSpPr/>
          <p:nvPr/>
        </p:nvSpPr>
        <p:spPr>
          <a:xfrm>
            <a:off x="7188840" y="54687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65"/>
          <p:cNvSpPr/>
          <p:nvPr/>
        </p:nvSpPr>
        <p:spPr>
          <a:xfrm>
            <a:off x="7587000" y="5729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66"/>
          <p:cNvSpPr/>
          <p:nvPr/>
        </p:nvSpPr>
        <p:spPr>
          <a:xfrm>
            <a:off x="7942680" y="5958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67"/>
          <p:cNvSpPr/>
          <p:nvPr/>
        </p:nvSpPr>
        <p:spPr>
          <a:xfrm>
            <a:off x="8278920" y="6170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8"/>
          <p:cNvSpPr/>
          <p:nvPr/>
        </p:nvSpPr>
        <p:spPr>
          <a:xfrm>
            <a:off x="8612640" y="635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9"/>
          <p:cNvSpPr/>
          <p:nvPr/>
        </p:nvSpPr>
        <p:spPr>
          <a:xfrm>
            <a:off x="8993160" y="65548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0"/>
          <p:cNvSpPr/>
          <p:nvPr/>
        </p:nvSpPr>
        <p:spPr>
          <a:xfrm>
            <a:off x="9165240" y="6719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71"/>
          <p:cNvSpPr/>
          <p:nvPr/>
        </p:nvSpPr>
        <p:spPr>
          <a:xfrm>
            <a:off x="10076400" y="716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72"/>
          <p:cNvSpPr/>
          <p:nvPr/>
        </p:nvSpPr>
        <p:spPr>
          <a:xfrm>
            <a:off x="10438200" y="7361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73"/>
          <p:cNvSpPr/>
          <p:nvPr/>
        </p:nvSpPr>
        <p:spPr>
          <a:xfrm>
            <a:off x="10809720" y="7486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74"/>
          <p:cNvSpPr/>
          <p:nvPr/>
        </p:nvSpPr>
        <p:spPr>
          <a:xfrm>
            <a:off x="11143080" y="760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75"/>
          <p:cNvSpPr/>
          <p:nvPr/>
        </p:nvSpPr>
        <p:spPr>
          <a:xfrm>
            <a:off x="11468160" y="7729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76"/>
          <p:cNvSpPr/>
          <p:nvPr/>
        </p:nvSpPr>
        <p:spPr>
          <a:xfrm>
            <a:off x="687240" y="5346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7"/>
          <p:cNvSpPr/>
          <p:nvPr/>
        </p:nvSpPr>
        <p:spPr>
          <a:xfrm>
            <a:off x="839880" y="5256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78"/>
          <p:cNvSpPr/>
          <p:nvPr/>
        </p:nvSpPr>
        <p:spPr>
          <a:xfrm>
            <a:off x="1176840" y="51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79"/>
          <p:cNvSpPr/>
          <p:nvPr/>
        </p:nvSpPr>
        <p:spPr>
          <a:xfrm>
            <a:off x="1500480" y="515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80"/>
          <p:cNvSpPr/>
          <p:nvPr/>
        </p:nvSpPr>
        <p:spPr>
          <a:xfrm>
            <a:off x="1792440" y="5119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1"/>
          <p:cNvSpPr/>
          <p:nvPr/>
        </p:nvSpPr>
        <p:spPr>
          <a:xfrm>
            <a:off x="21229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82"/>
          <p:cNvSpPr/>
          <p:nvPr/>
        </p:nvSpPr>
        <p:spPr>
          <a:xfrm>
            <a:off x="2440080" y="512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83"/>
          <p:cNvSpPr/>
          <p:nvPr/>
        </p:nvSpPr>
        <p:spPr>
          <a:xfrm>
            <a:off x="3066120" y="511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84"/>
          <p:cNvSpPr/>
          <p:nvPr/>
        </p:nvSpPr>
        <p:spPr>
          <a:xfrm>
            <a:off x="3354480" y="514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85"/>
          <p:cNvSpPr/>
          <p:nvPr/>
        </p:nvSpPr>
        <p:spPr>
          <a:xfrm>
            <a:off x="3675600" y="5165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6"/>
          <p:cNvSpPr/>
          <p:nvPr/>
        </p:nvSpPr>
        <p:spPr>
          <a:xfrm>
            <a:off x="3980520" y="516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87"/>
          <p:cNvSpPr/>
          <p:nvPr/>
        </p:nvSpPr>
        <p:spPr>
          <a:xfrm>
            <a:off x="4268880" y="519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88"/>
          <p:cNvSpPr/>
          <p:nvPr/>
        </p:nvSpPr>
        <p:spPr>
          <a:xfrm>
            <a:off x="0" y="929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Jane  B Schuelke   More! Rocks in Your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89"/>
          <p:cNvSpPr/>
          <p:nvPr/>
        </p:nvSpPr>
        <p:spPr>
          <a:xfrm>
            <a:off x="678168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CKS ARE RECYCLED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92" descr="BD21298_"/>
          <p:cNvPicPr/>
          <p:nvPr/>
        </p:nvPicPr>
        <p:blipFill>
          <a:blip r:embed="rId9"/>
          <a:stretch/>
        </p:blipFill>
        <p:spPr>
          <a:xfrm rot="19708200">
            <a:off x="5923080" y="668448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97"/>
          <p:cNvSpPr/>
          <p:nvPr/>
        </p:nvSpPr>
        <p:spPr>
          <a:xfrm>
            <a:off x="0" y="6248520"/>
            <a:ext cx="5638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96"/>
          <p:cNvSpPr/>
          <p:nvPr/>
        </p:nvSpPr>
        <p:spPr>
          <a:xfrm>
            <a:off x="-31680" y="6116760"/>
            <a:ext cx="5697360" cy="536400"/>
          </a:xfrm>
          <a:custGeom>
            <a:avLst/>
            <a:gdLst>
              <a:gd name="textAreaLeft" fmla="*/ 0 w 5697360"/>
              <a:gd name="textAreaRight" fmla="*/ 5697720 w 569736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589" h="338">
                <a:moveTo>
                  <a:pt x="3589" y="272"/>
                </a:moveTo>
                <a:cubicBezTo>
                  <a:pt x="3052" y="266"/>
                  <a:pt x="2733" y="338"/>
                  <a:pt x="2304" y="200"/>
                </a:cubicBezTo>
                <a:cubicBezTo>
                  <a:pt x="2249" y="163"/>
                  <a:pt x="2191" y="145"/>
                  <a:pt x="2129" y="128"/>
                </a:cubicBezTo>
                <a:cubicBezTo>
                  <a:pt x="2036" y="102"/>
                  <a:pt x="1947" y="69"/>
                  <a:pt x="1851" y="56"/>
                </a:cubicBezTo>
                <a:cubicBezTo>
                  <a:pt x="1693" y="0"/>
                  <a:pt x="1175" y="44"/>
                  <a:pt x="1131" y="45"/>
                </a:cubicBezTo>
                <a:cubicBezTo>
                  <a:pt x="993" y="75"/>
                  <a:pt x="861" y="105"/>
                  <a:pt x="720" y="117"/>
                </a:cubicBezTo>
                <a:cubicBezTo>
                  <a:pt x="644" y="130"/>
                  <a:pt x="577" y="161"/>
                  <a:pt x="504" y="179"/>
                </a:cubicBezTo>
                <a:cubicBezTo>
                  <a:pt x="416" y="200"/>
                  <a:pt x="339" y="213"/>
                  <a:pt x="247" y="220"/>
                </a:cubicBezTo>
                <a:cubicBezTo>
                  <a:pt x="226" y="227"/>
                  <a:pt x="203" y="229"/>
                  <a:pt x="185" y="241"/>
                </a:cubicBezTo>
                <a:cubicBezTo>
                  <a:pt x="175" y="248"/>
                  <a:pt x="165" y="256"/>
                  <a:pt x="154" y="261"/>
                </a:cubicBezTo>
                <a:cubicBezTo>
                  <a:pt x="134" y="270"/>
                  <a:pt x="110" y="270"/>
                  <a:pt x="92" y="282"/>
                </a:cubicBezTo>
                <a:cubicBezTo>
                  <a:pt x="82" y="289"/>
                  <a:pt x="72" y="297"/>
                  <a:pt x="61" y="302"/>
                </a:cubicBezTo>
                <a:cubicBezTo>
                  <a:pt x="48" y="308"/>
                  <a:pt x="33" y="308"/>
                  <a:pt x="20" y="313"/>
                </a:cubicBezTo>
                <a:cubicBezTo>
                  <a:pt x="13" y="315"/>
                  <a:pt x="7" y="320"/>
                  <a:pt x="0" y="323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98" descr="j0233594"/>
          <p:cNvPicPr/>
          <p:nvPr/>
        </p:nvPicPr>
        <p:blipFill>
          <a:blip r:embed="rId10"/>
          <a:stretch/>
        </p:blipFill>
        <p:spPr>
          <a:xfrm>
            <a:off x="14630400" y="407520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00"/>
          <p:cNvSpPr/>
          <p:nvPr/>
        </p:nvSpPr>
        <p:spPr>
          <a:xfrm rot="1838400">
            <a:off x="4266720" y="114264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Sediment erodes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1"/>
          <p:cNvSpPr/>
          <p:nvPr/>
        </p:nvSpPr>
        <p:spPr>
          <a:xfrm>
            <a:off x="6356520" y="1508040"/>
            <a:ext cx="152280" cy="152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 rot="530400">
            <a:off x="11124720" y="816768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Heat and pressure change rock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1219320" y="5576760"/>
            <a:ext cx="33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800" spc="-1" strike="noStrike">
                <a:solidFill>
                  <a:srgbClr val="6600ff"/>
                </a:solidFill>
                <a:latin typeface="Arial"/>
              </a:rPr>
              <a:t>Solidified magma or lava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7238880" y="7467480"/>
            <a:ext cx="182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Magma Chamb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93"/>
          <p:cNvSpPr/>
          <p:nvPr/>
        </p:nvSpPr>
        <p:spPr>
          <a:xfrm>
            <a:off x="5665680" y="6548400"/>
            <a:ext cx="430200" cy="13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12801600" y="876312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High Heat &amp; Pressu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5867280" y="617220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Cooler &amp; Less Pressur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2"/>
          <p:cNvSpPr/>
          <p:nvPr/>
        </p:nvSpPr>
        <p:spPr>
          <a:xfrm rot="4471800">
            <a:off x="3867840" y="2659320"/>
            <a:ext cx="18288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720" rIns="12672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Soda Bottle Eruption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98" descr="j0233594"/>
          <p:cNvPicPr/>
          <p:nvPr/>
        </p:nvPicPr>
        <p:blipFill>
          <a:blip r:embed="rId11"/>
          <a:stretch/>
        </p:blipFill>
        <p:spPr>
          <a:xfrm>
            <a:off x="228600" y="3352680"/>
            <a:ext cx="228600" cy="115920"/>
          </a:xfrm>
          <a:prstGeom prst="rect">
            <a:avLst/>
          </a:prstGeom>
          <a:ln w="0">
            <a:noFill/>
          </a:ln>
        </p:spPr>
      </p:pic>
      <p:sp>
        <p:nvSpPr>
          <p:cNvPr id="472" name="Freeform 12"/>
          <p:cNvSpPr/>
          <p:nvPr/>
        </p:nvSpPr>
        <p:spPr>
          <a:xfrm flipH="1">
            <a:off x="5166720" y="6477120"/>
            <a:ext cx="1004760" cy="1447560"/>
          </a:xfrm>
          <a:custGeom>
            <a:avLst/>
            <a:gdLst>
              <a:gd name="textAreaLeft" fmla="*/ -360 w 1004760"/>
              <a:gd name="textAreaRight" fmla="*/ 1004760 w 1004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10000" h="10615">
                <a:moveTo>
                  <a:pt x="8052" y="808"/>
                </a:moveTo>
                <a:cubicBezTo>
                  <a:pt x="7335" y="0"/>
                  <a:pt x="7754" y="717"/>
                  <a:pt x="8052" y="1353"/>
                </a:cubicBezTo>
                <a:cubicBezTo>
                  <a:pt x="8350" y="1989"/>
                  <a:pt x="9683" y="3822"/>
                  <a:pt x="9841" y="4622"/>
                </a:cubicBezTo>
                <a:cubicBezTo>
                  <a:pt x="10000" y="5422"/>
                  <a:pt x="9393" y="5348"/>
                  <a:pt x="8946" y="5711"/>
                </a:cubicBezTo>
                <a:cubicBezTo>
                  <a:pt x="8499" y="6074"/>
                  <a:pt x="7903" y="6347"/>
                  <a:pt x="7157" y="6801"/>
                </a:cubicBezTo>
                <a:lnTo>
                  <a:pt x="4473" y="8436"/>
                </a:lnTo>
                <a:cubicBezTo>
                  <a:pt x="3728" y="8890"/>
                  <a:pt x="3280" y="9253"/>
                  <a:pt x="2684" y="9525"/>
                </a:cubicBezTo>
                <a:cubicBezTo>
                  <a:pt x="2088" y="9797"/>
                  <a:pt x="1342" y="9888"/>
                  <a:pt x="895" y="10070"/>
                </a:cubicBezTo>
                <a:cubicBezTo>
                  <a:pt x="448" y="10252"/>
                  <a:pt x="205" y="10292"/>
                  <a:pt x="0" y="1061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Connector 95"/>
          <p:cNvCxnSpPr/>
          <p:nvPr/>
        </p:nvCxnSpPr>
        <p:spPr>
          <a:xfrm flipV="1">
            <a:off x="3962520" y="1066320"/>
            <a:ext cx="838800" cy="153360"/>
          </a:xfrm>
          <a:prstGeom prst="curvedConnector5">
            <a:avLst>
              <a:gd name="adj1" fmla="val 40875"/>
              <a:gd name="adj2" fmla="val 49882"/>
              <a:gd name="adj3" fmla="val 40875"/>
            </a:avLst>
          </a:prstGeom>
          <a:ln w="54000">
            <a:solidFill>
              <a:srgbClr val="ff0000"/>
            </a:solidFill>
            <a:miter/>
          </a:ln>
        </p:spPr>
      </p:cxnSp>
      <p:sp>
        <p:nvSpPr>
          <p:cNvPr id="474" name="Rectangle 97"/>
          <p:cNvSpPr/>
          <p:nvPr/>
        </p:nvSpPr>
        <p:spPr>
          <a:xfrm>
            <a:off x="5181480" y="2590920"/>
            <a:ext cx="2498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ETACONGLOMERA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om conglome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</dc:creator>
  <dc:description/>
  <dc:language>en-US</dc:language>
  <cp:lastModifiedBy>DYREMD</cp:lastModifiedBy>
  <dcterms:modified xsi:type="dcterms:W3CDTF">2011-10-03T10:41:27Z</dcterms:modified>
  <cp:revision>112</cp:revision>
  <dc:subject/>
  <dc:title>PowerPoint Presentation</dc:title>
</cp:coreProperties>
</file>