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BD8E-E06E-4970-9450-06F1448FF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F8D-C96F-406C-9A0B-E7CBDAE3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889E-53BF-4FBE-B074-E4C6E6A91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2D7-2C87-440A-8D86-15E8BA17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840-8963-4254-B0A5-6CE8EF33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AB3-D74B-4B7D-B4E8-489291BFA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EA8-742B-4DC4-AB97-31EC9BE8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5760-69A4-4C04-807D-5A60E0AF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0F94-80B7-49E2-BACF-AB21A018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E8AB-DB48-4E0B-AE1E-5B19FB2A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3FA-2DC5-4C0F-B75E-1B495BC80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C1BF-B92A-42D0-A3D1-80BD75AB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8EE-5865-49A1-AB2F-3340C4044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03F-35B6-4344-8CE3-B67750F3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B68-90AA-4296-9817-A3E8A4D13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C7E-D0FE-4C86-8178-EC1F395C1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C6E4-27D1-4F13-9A1B-7E39894E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835-C2F2-42A3-A853-CD729956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513-94E2-4B3D-BF0D-EE0341CA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1BA-8659-48D8-A1ED-5EC335C3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B3E-6EBB-4CF1-BFE4-A183ED6E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46F-6AEA-4461-AD00-D6D07620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6E9-D67C-4B76-A146-41D4A059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F33-101F-40D7-BAE7-29C01617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B35-67DD-434A-8DC1-EEF3CC8A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886-97D4-4EDE-B119-FD629A69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0A7-8DFB-451C-8D02-9F072110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C8E-2D6C-480B-9E72-41E30292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4D8-1064-4212-891C-2AF85D5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064-7825-40F8-B547-3C392DC8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6E0-BBEB-424C-8E18-FF309CD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C1B-CA29-410F-84E5-F62064CF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1B1-614B-49CF-B806-82ECC358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CDF-E827-4AB9-A4AE-A84218B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91A-9F88-49D4-9403-7093863E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413-2214-4E7C-82F1-D25E2ED02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following word problem matc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sentence?  B + 6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stin found 6 new bugs for his coll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ay.  If B is the number of bugs he h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terday, how many does he have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number sentence that ha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qual sign is called a 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sity delivers 14 more pap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 Elisabeth.  Write this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 + 14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n 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detta has 5 apples.  Harrison has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es.  How many do they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oge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 + 4 = 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following word problem matc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sent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+ 4 =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ler has 9 candy bars until he eats 4 can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s.  How many does he have lef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athematical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16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less than somet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 - 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vin caught 2 less fish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yle.  Kyle caught  4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sh.  Write an equation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fish Devin cau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48 – 2 = P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following word problem matc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sentence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a makes 12 cookies each day f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known amount of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y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mathematical nam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 + x = 1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457200" y="3808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362320" y="380880"/>
            <a:ext cx="175248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7010280" y="380880"/>
            <a:ext cx="175284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plus someth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62120" y="30492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 + x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an equ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 is 11 years old.  His si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4 years older.  How old is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s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1 + 4 = 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following word problem matc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sent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 x $ =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fourteen bricks are missing out of 3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icks, how many are lef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066680" y="8380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209680" y="1371600"/>
            <a:ext cx="4876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variable in the number sentence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+ 5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181480" y="167652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838080" y="7621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the following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 minus any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4-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447920" y="1523880"/>
            <a:ext cx="5105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9051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an equ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an drove 15 miles befor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ed for gas.  Then he dr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st of the way to his friend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e.  Altogether, he drove 3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5 + x = 30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following word problem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number sentence B + 5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by just bought enough buttons to 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on each shirt she made.  If B is th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kinds of buttons she bought, how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irts did Gaby m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xpress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286000" y="1828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hrase in math that uses variables but does not have an equal sig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rite the following expre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more than something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1440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 + 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1440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n 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on caught 8 fish.  Dawson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ndon caught 16 fish al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fish did Dawson c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8 + C = 1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ARBASE</cp:lastModifiedBy>
  <cp:lastPrinted>2001-01-31T16:21:13Z</cp:lastPrinted>
  <dcterms:modified xsi:type="dcterms:W3CDTF">2020-05-18T18:04:34Z</dcterms:modified>
  <cp:revision>6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