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4A1-0E8A-40C1-8F7E-4A1DCDBC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2CF-7568-419E-AFCB-802AD9E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826-C9F7-4B42-B09B-09E462C3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ABA-D83F-4A2B-8DD0-BF090868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FFF4-BB0C-495B-AD1F-92AD188C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ACF-56FC-44D1-BC5E-4FD1276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281-3E1E-4FA9-898C-8B10EE23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EDE-9ECD-4C76-8795-F72C2484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D369-1C8F-40E0-AB6F-2BA4EB2F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4CF1-EB7A-4232-B831-FE8C4A20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BB7B-4312-4740-9C21-C44235E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59F-52B6-4DF5-9FB0-9490F563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5589-841C-4D58-B7C9-D0926A0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C65-8BD9-49BC-9F48-BA861C3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088-0B91-4BD9-A3B5-71D873BE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2BF2-EB7F-4798-90D3-1C48EB3C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6D1-A3A0-4684-9379-0D7CD57C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62C-712E-4255-9047-2D778C75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94F-8C72-44B5-8CDC-03E18DF9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7DE-E475-4B44-90C2-65A06289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BBB-2070-4E7E-A4B6-DCB964C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02F-D89F-43C8-B1A9-DF9A106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C6A-E0B4-4105-9490-64DB8AB1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87E-437E-4D18-9232-DE5A2AF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841-CF95-461B-AA55-9DD3E4630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4776-4022-4AFD-9872-B93253904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678204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atching Open Sentences to Word Proble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ch is whi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ch is whi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var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riting a word prob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 (expression, equation, open sent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rds should I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0066"/>
                </a:solidFill>
                <a:latin typeface="Arial"/>
              </a:rPr>
              <a:t>D + 6 = ?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(expression, equation, open sent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u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rds should I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0066"/>
                </a:solidFill>
                <a:latin typeface="Arial"/>
              </a:rPr>
              <a:t>18 – C = ?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(expression, equation, open sent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u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rds should I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bout on the tes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the open sentence and think about the three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it? (expression, equation, open 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rds should I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answer choices and figure out the function and the open sen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ch the answer choices to the original open sen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B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- 5 =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na bought just enough buttons to put five on each shirt she made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number of kinds of buttons she bought, how many shirts did Dana mak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na bought five of each kind of bagel a bakery had in stock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number of kinds of bagels the bakery had, how many bagels did Lana bu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ter sold five fewer boxes of cookies than Brad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number of boxes Brad sold, how many boxes of cookies did Carter sel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rry found five new bugs for his collection today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number of bugs he had yesterday, how many does he have now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D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+ 2 =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69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nnie earned $2 more than Blanca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amount in dollars that Blanca earned, how much did Lonnie ear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ephen spent $2 on a notebook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amount of money that he started with, how much does Stephen have lef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ana earns $2 each time she washes the family car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total amount of money that she earned last year by washing the car, how many times did she wash the ca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th club makes $2 on each box of dominoes that it sells.  If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number of boxes of dominoes that the club sold, how much did it make in al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9:55Z</dcterms:created>
  <dc:creator>LCPS_CLASS</dc:creator>
  <dc:description/>
  <dc:language>en-US</dc:language>
  <cp:lastModifiedBy>STARBASE</cp:lastModifiedBy>
  <dcterms:modified xsi:type="dcterms:W3CDTF">2020-05-18T18:05:33Z</dcterms:modified>
  <cp:revision>7</cp:revision>
  <dc:subject/>
  <dc:title>Writing Algebra Equations and Word Problems</dc:title>
</cp:coreProperties>
</file>