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CF6-EC76-428A-8A86-B76F0DFC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253-0168-4E0C-9C38-DC040673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6C2-A566-4409-9786-DEA8C39F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FF9-7188-4F2F-BC2E-0CF27159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7A1-F757-4AF4-AEB0-473DFB2F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63A-7A42-49A7-B633-A42EEE6E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F6D-2A5E-43EA-986B-210B3353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C5C-2C29-4083-9F81-B22C0B96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6C2-FA24-4768-A6F7-AE147260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E48-C865-430E-9E70-43FE9A19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E74-3A32-45B4-94DE-DD2274E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8AA-01E9-4781-91BC-56B46D2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4C6C-DC29-4681-82FF-864063CFD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4953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1: 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50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1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5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9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60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1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4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5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8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9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3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3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5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9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Corrigan, Susan B NFG NG VAARNG (USA)</cp:lastModifiedBy>
  <dcterms:modified xsi:type="dcterms:W3CDTF">2022-09-26T17:21:41Z</dcterms:modified>
  <cp:revision>11</cp:revision>
  <dc:subject/>
  <dc:title>Slide 1</dc:title>
</cp:coreProperties>
</file>