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13396-F6EC-4072-9774-487DFD633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DC93-FE60-4EBB-9D50-83DF323FD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280A-EE54-40D6-932D-B5F131F73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6DF2C-8658-47D5-B264-688ED5E5D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1E11-58E0-44C7-8F36-45610E381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94EA-5BCA-423F-9DC1-86F9D9F19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2A16-4657-4696-9F7D-3D372632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1600-0941-4607-BBD0-B6CA287F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F6C43-A10D-4ED3-BFD9-F65B17943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3A911-663F-4F91-8FB0-AF9B0C1E5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A040F-47EA-4FB9-AF43-6098224E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B521-8DB7-404B-BBE4-6E6611627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78CE-26B3-4563-B495-ED9DBDD4C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a:hlinkClick r:id="rId1" action="ppaction://hlinksldjump"/>
          </p:cNvPr>
          <p:cNvSpPr/>
          <p:nvPr/>
        </p:nvSpPr>
        <p:spPr>
          <a:xfrm rot="558000">
            <a:off x="2514240" y="1676520"/>
            <a:ext cx="3657600" cy="2819160"/>
          </a:xfrm>
          <a:custGeom>
            <a:avLst/>
            <a:gdLst>
              <a:gd name="textAreaLeft" fmla="*/ 1350360 w 3657600"/>
              <a:gd name="textAreaRight" fmla="*/ 3545280 w 3657600"/>
              <a:gd name="textAreaTop" fmla="*/ 120240 h 2819160"/>
              <a:gd name="textAreaBottom" fmla="*/ 698760 h 281916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a:hlinkClick r:id="rId2" action="ppaction://hlinksldjump"/>
          </p:cNvPr>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custGeom>
                  <a:avLst/>
                  <a:gdLst>
                    <a:gd name="textAreaLeft" fmla="*/ 0 w 983520"/>
                    <a:gd name="textAreaRight" fmla="*/ 983520 w 983520"/>
                    <a:gd name="textAreaTop" fmla="*/ 0 h 1158120"/>
                    <a:gd name="textAreaBottom" fmla="*/ 414000 h 115812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custGeom>
                <a:avLst/>
                <a:gdLst>
                  <a:gd name="textAreaLeft" fmla="*/ 0 w 848880"/>
                  <a:gd name="textAreaRight" fmla="*/ 849240 w 848880"/>
                  <a:gd name="textAreaTop" fmla="*/ -360 h 703080"/>
                  <a:gd name="textAreaBottom" fmla="*/ 250920 h 70308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custGeom>
            <a:avLst/>
            <a:gdLst>
              <a:gd name="textAreaLeft" fmla="*/ 0 w 1117440"/>
              <a:gd name="textAreaRight" fmla="*/ 1117440 w 111744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custGeom>
            <a:avLst/>
            <a:gdLst>
              <a:gd name="textAreaLeft" fmla="*/ 0 w 1117800"/>
              <a:gd name="textAreaRight" fmla="*/ 1117800 w 1117800"/>
              <a:gd name="textAreaTop" fmla="*/ 36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custGeom>
                <a:avLst/>
                <a:gdLst>
                  <a:gd name="textAreaLeft" fmla="*/ 0 w 1117440"/>
                  <a:gd name="textAreaRight" fmla="*/ 1117440 w 1117440"/>
                  <a:gd name="textAreaTop" fmla="*/ 0 h 1447560"/>
                  <a:gd name="textAreaBottom" fmla="*/ 517320 h 144756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custGeom>
              <a:avLst/>
              <a:gdLst>
                <a:gd name="textAreaLeft" fmla="*/ 0 w 1117080"/>
                <a:gd name="textAreaRight" fmla="*/ 1117440 w 111708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custGeom>
              <a:avLst/>
              <a:gdLst>
                <a:gd name="textAreaLeft" fmla="*/ 0 w 1117440"/>
                <a:gd name="textAreaRight" fmla="*/ 1117440 w 1117440"/>
                <a:gd name="textAreaTop" fmla="*/ 0 h 914400"/>
                <a:gd name="textAreaBottom" fmla="*/ 326880 h 91440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custGeom>
              <a:avLst/>
              <a:gdLst>
                <a:gd name="textAreaLeft" fmla="*/ 0 w 1117440"/>
                <a:gd name="textAreaRight" fmla="*/ 1117440 w 1117440"/>
                <a:gd name="textAreaTop" fmla="*/ -360 h 914040"/>
                <a:gd name="textAreaBottom" fmla="*/ 326520 h 914040"/>
              </a:gdLst>
              <a:ahLst/>
              <a:rect l="textAreaLeft" t="textAreaTop" r="textAreaRight" b="textAreaBottom"/>
              <a:pathLst>
                <a:path w="21600" h="21600">
                  <a:moveTo>
                    <a:pt x="1125" y="10800"/>
                  </a:moveTo>
                  <a:cubicBezTo>
                    <a:pt x="1125" y="5456"/>
                    <a:pt x="5456" y="1125"/>
                    <a:pt x="10800" y="1125"/>
                  </a:cubicBezTo>
                  <a:cubicBezTo>
                    <a:pt x="16143" y="1124"/>
                    <a:pt x="20474" y="5456"/>
                    <a:pt x="20475" y="10799"/>
                  </a:cubicBezTo>
                  <a:lnTo>
                    <a:pt x="21600" y="10800"/>
                  </a:lnTo>
                  <a:cubicBezTo>
                    <a:pt x="21600" y="4835"/>
                    <a:pt x="16764" y="0"/>
                    <a:pt x="10800" y="0"/>
                  </a:cubicBezTo>
                  <a:cubicBezTo>
                    <a:pt x="4835" y="0"/>
                    <a:pt x="0" y="4835"/>
                    <a:pt x="0" y="10800"/>
                  </a:cubicBezTo>
                  <a:lnTo>
                    <a:pt x="1125"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custGeom>
            <a:avLst/>
            <a:gdLst>
              <a:gd name="textAreaLeft" fmla="*/ 489960 w 1326960"/>
              <a:gd name="textAreaRight" fmla="*/ 1286280 w 1326960"/>
              <a:gd name="textAreaTop" fmla="*/ 44640 h 1047600"/>
              <a:gd name="textAreaBottom" fmla="*/ 259560 h 104760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Katie</cp:lastModifiedBy>
  <dcterms:modified xsi:type="dcterms:W3CDTF">2013-07-29T19:35:44Z</dcterms:modified>
  <cp:revision>51</cp:revision>
  <dc:subject/>
  <dc:title>The Atoms Family</dc:title>
</cp:coreProperties>
</file>