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9B6-F6B4-4F53-A9D1-A9AC078A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1EC-A119-46F3-B711-840A370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1A3-B684-44A9-AF4D-78BAEBFE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963-5978-4E05-A498-256072C0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37C-12DB-4B38-86E8-E05BC6D5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306-DE9B-419B-8781-5A9DE0B8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EE8-A96E-4A26-AF4A-A73AED3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966-F809-460C-99D7-ECA724C0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36A-5C13-405E-967D-60A6D935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EBD-A8B8-4C3E-B8B2-DE9E8FB2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EAA-0F3E-4876-877F-04A9EE1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4D6-D62D-405D-898F-9CA4DF7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56E-9459-4DBD-B0AD-104ADBEE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0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Picture 22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9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5:01Z</dcterms:modified>
  <cp:revision>21</cp:revision>
  <dc:subject/>
  <dc:title>Slide 1</dc:title>
</cp:coreProperties>
</file>