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C8F-3388-42AF-BD1C-24E2D226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1C6-551C-4D5D-9D11-CA6E6838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D7E-47A4-4103-8E4F-D77D3EEE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9B5-A929-44E8-AC50-64B09D93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D799-84B8-46CB-BF9F-A766E7B8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2236-C108-4968-A429-5B44D7AF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9C51-84DA-47CC-9E8F-77422B94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B9D2-68A1-47D4-9F55-E157D437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836B-9973-459D-9A22-EE5955A6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A0BC-2D07-4E90-89A0-157DE8EE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9717-FBB8-462D-B2DC-DA19FC04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CA8-88A4-46BD-9147-62C319D5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254D-2B31-4171-9E0C-AB65E071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9012-EB3D-4953-A396-55BFA923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73AF-4729-402C-9B54-13A667F4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C492-A8FF-4601-86D2-C102C97E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3D8A-A76C-4DC9-8339-6AA5981E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F42-6793-470D-80D0-9178B57B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E8C8-7715-4668-A33B-044AF24C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F94-4726-482C-9041-E26E296B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DA2-C692-4623-B609-C81E00C8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3AF9-10AA-4140-90AD-58370134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42E0-23CD-47EB-814D-9F3447D1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016-BE93-4AE3-93E7-3CC30E5A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F94B-EE19-4988-9B44-8939DFA504A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085A-DCD0-4E71-B731-4BD252248A0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lgeb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B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 5 =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na bought just enough buttons to put five on each shirt she made.  I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the number of kinds of buttons she bought, how many shirts did Dana mak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na bought five of each kind of bagel a bakery had in stock.  I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the number of kinds of bagels the bakery had, how many bagels did Lana bu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rter sold five fewer boxes of cookies than Brad.  I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the number of boxes Brad sold, how many boxes of cookies did Carter sell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rry found five new bugs for his collection today.  I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the number of bugs he had yesterday, how many does he have now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D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+ 2 =?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nnie earned $2 more than Blanca.  I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the amount in dollars that Blanca earned, how much did Lonnie ear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ephen spent $2 on a notebook.  I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the amount of money that he started with, how much does Stephen have lef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ana earns $2 each time she washes the family car.  I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the total amount of money that she earned last year by washing the car, how many times did she wash the car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math club makes $2 on each box of dominoes that it sells.  I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the number of boxes of dominoes that the club sold, how much did it make in all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you need to rememb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key words for addition, subtraction, multiplication, and division word probl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ifference between an expression, an equation, and an open sent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 variable 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riab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2361960"/>
            <a:ext cx="85345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 letter or symbol that represents a numb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N – 4 = 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5 + ∆ = 8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pre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vari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=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n – 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78h same as (78 x h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463 + k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qu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 vari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 numb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45 – j = 38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5 x C = 60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735 + f = 856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pen Sent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 variables (1 variable is a ?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 numb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86 + h = 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m – 94 = 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6q = 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47880" y="59774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66"/>
                </a:solidFill>
                <a:latin typeface="Arial"/>
              </a:rPr>
              <a:t>	</a:t>
            </a:r>
            <a:br>
              <a:rPr sz="5000"/>
            </a:br>
            <a:endParaRPr b="1" lang="en-US" sz="5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ta collected 7 more seashells than John. If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the number of seashells that John collected, how many did Rita collect?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Arial"/>
              </a:rPr>
              <a:t>S + 7 = ? </a:t>
            </a:r>
            <a:r>
              <a:rPr b="0" lang="en-US" sz="5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lake collected 7 fewer stamps than Carol. If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the number of stamps that Carol collected, How many did Blake collect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003366"/>
                </a:solidFill>
                <a:latin typeface="Arial"/>
              </a:rPr>
              <a:t>S - 7 = ? </a:t>
            </a:r>
            <a:r>
              <a:rPr b="0" lang="en-US" sz="5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B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 5 =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 you need to know to write a problem for this open sentenc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words mean to subtrac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09:55Z</dcterms:created>
  <dc:creator>LCPS_CLASS</dc:creator>
  <dc:description/>
  <dc:language>en-US</dc:language>
  <cp:lastModifiedBy>STARBASE</cp:lastModifiedBy>
  <dcterms:modified xsi:type="dcterms:W3CDTF">2020-05-18T18:05:09Z</dcterms:modified>
  <cp:revision>7</cp:revision>
  <dc:subject/>
  <dc:title>Writing Algebra Equations and Word Problems</dc:title>
</cp:coreProperties>
</file>